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0.wmf" ContentType="image/x-wmf"/>
  <Override PartName="/ppt/media/image29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0.wmf" ContentType="image/x-wmf"/>
  <Override PartName="/ppt/media/image35.wmf" ContentType="image/x-wmf"/>
  <Override PartName="/ppt/media/image5.wmf" ContentType="image/x-wmf"/>
  <Override PartName="/ppt/media/image28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F1C16-F130-48DF-B605-FA106B241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DC315-0388-4DE7-B117-658E0E641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FE6E9-2920-4656-867F-F0832B2FB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5C65E-78DA-444C-9B59-4C5CDABF5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EEBE4-A2B1-4797-8B77-CA0578B3C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ED9E1-6610-4BCC-AA3D-7BE808915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92BF5-833C-418A-9D97-6D5CEDE1E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E057A-E6F1-41C7-B305-315D45161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4A6AE-112D-449E-AA9C-B28E8C476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32B3E-60CC-49B0-AA0D-93CD4A853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6D902-FBF0-491D-8328-48818F8B5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5A72A-F052-49DA-9B43-D52936560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D2AED-EA24-4388-B90C-D602AEDB0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E445E-06A5-4294-A11F-168DA0018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23C7C-471F-4520-92CA-D98D05E0B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DE56D-37E8-4AFE-A67E-6326D75AF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C9FC4-D671-45E8-91C8-E682C6E7A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02293-F068-4E8C-A0D6-214CE61A5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B68C4-982D-4B3B-A1BA-10D8AD639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8BCE1-1A4E-4218-AEE3-85A476276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38BB2-6FE3-4938-8386-8D0917543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39B90-0835-4B16-A1D3-964B56AF1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6D758-8CF3-4878-9044-A9FB6BC0A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9BAEE-F056-479B-B1A4-6E8BD1290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FEAB9-4DED-4C20-857E-BD7DC7B8327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7F4F4-52D8-4FCB-BE7A-F7FAB261A49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8.wmf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3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4.wmf"/><Relationship Id="rId1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9.wmf"/><Relationship Id="rId11" Type="http://schemas.openxmlformats.org/officeDocument/2006/relationships/image" Target="../media/image20.wmf"/><Relationship Id="rId1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6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7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28.wmf"/><Relationship Id="rId17" Type="http://schemas.openxmlformats.org/officeDocument/2006/relationships/image" Target="../media/image29.wmf"/><Relationship Id="rId1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2.wmf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7.wmf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1378800" y="922320"/>
            <a:ext cx="572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Σ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ΥΣΤΗΜΑΤΑ </a:t>
            </a: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Α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ΥΤΟΜΑΤΟΥ </a:t>
            </a: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Ε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ΛΕΓΧΟΥ </a:t>
            </a: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Ι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5640" y="6415200"/>
            <a:ext cx="301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5</a:t>
            </a: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η ΕΒΔΟΜΑΔΑ ΔΙΑΛΕΞΕΩ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8535960" y="6477120"/>
            <a:ext cx="33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150920" y="617400"/>
            <a:ext cx="779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47660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24800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204560" y="1943280"/>
            <a:ext cx="49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Συντονισμός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ID-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ελεγκτή από το πεδίο συχνότητα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32432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3294000" y="5943600"/>
          <a:ext cx="1521000" cy="546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94000" y="5943600"/>
                    <a:ext cx="1521000" cy="54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" name=""/>
          <p:cNvSpPr/>
          <p:nvPr/>
        </p:nvSpPr>
        <p:spPr>
          <a:xfrm>
            <a:off x="212760" y="6110280"/>
            <a:ext cx="315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Από το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ode-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διάγραμμα μέτρο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22424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5029200" y="5867280"/>
          <a:ext cx="1228680" cy="773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29200" y="5867280"/>
                    <a:ext cx="1228680" cy="77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2" name="" descr=""/>
          <p:cNvPicPr/>
          <p:nvPr/>
        </p:nvPicPr>
        <p:blipFill>
          <a:blip r:embed="rId5"/>
          <a:stretch/>
        </p:blipFill>
        <p:spPr>
          <a:xfrm>
            <a:off x="2362320" y="2209680"/>
            <a:ext cx="3689280" cy="3810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C885D-5FA6-45FE-A527-91C36DF7106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378800" y="922320"/>
            <a:ext cx="572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Σ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ΥΣΤΗΜΑΤΑ </a:t>
            </a: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Α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ΥΤΟΜΑΤΟΥ </a:t>
            </a: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Ε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ΛΕΓΧΟΥ </a:t>
            </a: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Ι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5640" y="6415200"/>
            <a:ext cx="301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5</a:t>
            </a: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η ΕΒΔΟΜΑΔΑ ΔΙΑΛΕΞΕΩ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535960" y="6477120"/>
            <a:ext cx="33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150920" y="617400"/>
            <a:ext cx="779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47660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24800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220760" y="1828800"/>
            <a:ext cx="534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Times New Roman"/>
              </a:rPr>
              <a:t>ΜΕΙΟΝΕΚΤΗΜΑΤΑ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Z-N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</a:rPr>
              <a:t> ΜΕΘΟΔΟ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33520" y="2362320"/>
            <a:ext cx="800100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Για το συντονισμό των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ID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 παραμέτρων απαιτείται η λειτουργία του κλειστού συστήματος σε συνθήκες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κρίσιμης ευστάθειας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 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Ζ-Ν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μέθοδος προτείνει όρια εκτός των οποίων βρίδκονται οι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ID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 παράμετρο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Για τον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“on-line” 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συντονισμό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τον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-I-D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 παραμέτρων μπορούν να χρησιμοποιηθούν στοιχεία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ΠΡΟΣΑΡΜΟΣΤΙΚΟΥ ΕΛΕΓΧΟΥ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1066680" y="4191120"/>
            <a:ext cx="7010280" cy="2209680"/>
            <a:chOff x="1066680" y="4191120"/>
            <a:chExt cx="7010280" cy="2209680"/>
          </a:xfrm>
        </p:grpSpPr>
        <p:sp>
          <p:nvSpPr>
            <p:cNvPr id="122" name=""/>
            <p:cNvSpPr/>
            <p:nvPr/>
          </p:nvSpPr>
          <p:spPr>
            <a:xfrm>
              <a:off x="1066680" y="5523840"/>
              <a:ext cx="72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835880" y="5142960"/>
              <a:ext cx="744840" cy="6346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G(s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572000" y="4191120"/>
              <a:ext cx="191808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400" spc="-1" strike="noStrike">
                  <a:solidFill>
                    <a:srgbClr val="000000"/>
                  </a:solidFill>
                  <a:latin typeface="Times New Roman"/>
                </a:rPr>
                <a:t>ΕΚΤΙΜΗΤΗ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563800" y="5523840"/>
              <a:ext cx="2513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050640" y="5142960"/>
              <a:ext cx="743400" cy="6346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PI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860120" y="5238000"/>
              <a:ext cx="396720" cy="476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389320" y="5523840"/>
              <a:ext cx="59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778200" y="5523840"/>
              <a:ext cx="991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 flipV="1">
              <a:off x="4240800" y="4381200"/>
              <a:ext cx="0" cy="114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240800" y="4381560"/>
              <a:ext cx="330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490080" y="4381560"/>
              <a:ext cx="462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952320" y="4381560"/>
              <a:ext cx="14400" cy="2018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2001240" y="6400800"/>
              <a:ext cx="4959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598400" y="476280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059920" y="590508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 flipV="1">
              <a:off x="2001240" y="5732280"/>
              <a:ext cx="0" cy="667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8" name=""/>
          <p:cNvSpPr/>
          <p:nvPr/>
        </p:nvSpPr>
        <p:spPr>
          <a:xfrm flipH="1">
            <a:off x="2895480" y="4876920"/>
            <a:ext cx="9144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3809880" y="4267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9880" y="42670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32102-6DC3-42AB-A31C-A0AF47B7574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1378800" y="922320"/>
            <a:ext cx="572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Σ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ΥΣΤΗΜΑΤΑ </a:t>
            </a: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Α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ΥΤΟΜΑΤΟΥ </a:t>
            </a: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Ε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ΛΕΓΧΟΥ </a:t>
            </a: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Ι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640" y="6415200"/>
            <a:ext cx="301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5</a:t>
            </a: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η ΕΒΔΟΜΑΔΑ ΔΙΑΛΕΞΕΩ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8535960" y="6477120"/>
            <a:ext cx="33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50920" y="617400"/>
            <a:ext cx="779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47660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088280" y="1905120"/>
            <a:ext cx="6729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Times New Roman"/>
              </a:rPr>
              <a:t>Συντονισμός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ID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</a:rPr>
              <a:t> παραμέτρων με την μέθοδο ενό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</a:rPr>
              <a:t>τέταρτου εύρους απόκρισης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22424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17204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685800" y="2743200"/>
            <a:ext cx="7619760" cy="703800"/>
            <a:chOff x="685800" y="2743200"/>
            <a:chExt cx="7619760" cy="703800"/>
          </a:xfrm>
        </p:grpSpPr>
        <p:sp>
          <p:nvSpPr>
            <p:cNvPr id="150" name=""/>
            <p:cNvSpPr/>
            <p:nvPr/>
          </p:nvSpPr>
          <p:spPr>
            <a:xfrm>
              <a:off x="685800" y="2743200"/>
              <a:ext cx="76197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Ρύθμιση κέρδους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</a:t>
              </a:r>
              <a:r>
                <a:rPr b="0" lang="el-GR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</a:t>
              </a:r>
              <a:r>
                <a:rPr b="0" lang="el-GR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με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l-GR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</a:t>
              </a:r>
              <a:r>
                <a:rPr b="0" lang="el-GR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</a:t>
              </a:r>
              <a:r>
                <a:rPr b="0" lang="el-GR" sz="2000" spc="-1" strike="noStrike">
                  <a:solidFill>
                    <a:srgbClr val="000000"/>
                  </a:solidFill>
                  <a:latin typeface="Times New Roman"/>
                </a:rPr>
                <a:t>έτσι</a:t>
              </a:r>
              <a:r>
                <a:rPr b="0" lang="el-GR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ώστε η απόκριση </a:t>
              </a:r>
              <a:r>
                <a:rPr b="0" lang="el-GR" sz="2000" spc="-1" strike="noStrike">
                  <a:solidFill>
                    <a:srgbClr val="000000"/>
                  </a:solidFill>
                  <a:latin typeface="Times New Roman"/>
                </a:rPr>
                <a:t>του κλειστού συστήματος </a:t>
              </a:r>
              <a:r>
                <a:rPr b="0" lang="el-GR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σε βηματική είσοδο να είναι: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51" name=""/>
            <p:cNvGraphicFramePr/>
            <p:nvPr/>
          </p:nvGraphicFramePr>
          <p:xfrm>
            <a:off x="2551680" y="2743200"/>
            <a:ext cx="1244160" cy="5007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52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551680" y="2743200"/>
                      <a:ext cx="1244160" cy="500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53" name=""/>
            <p:cNvGraphicFramePr/>
            <p:nvPr/>
          </p:nvGraphicFramePr>
          <p:xfrm>
            <a:off x="4106880" y="2743200"/>
            <a:ext cx="1554840" cy="4604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54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106880" y="2743200"/>
                      <a:ext cx="1554840" cy="46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55" name=""/>
          <p:cNvGrpSpPr/>
          <p:nvPr/>
        </p:nvGrpSpPr>
        <p:grpSpPr>
          <a:xfrm>
            <a:off x="4572000" y="3504960"/>
            <a:ext cx="4114800" cy="2514600"/>
            <a:chOff x="4572000" y="3504960"/>
            <a:chExt cx="4114800" cy="2514600"/>
          </a:xfrm>
        </p:grpSpPr>
        <p:sp>
          <p:nvSpPr>
            <p:cNvPr id="156" name=""/>
            <p:cNvSpPr/>
            <p:nvPr/>
          </p:nvSpPr>
          <p:spPr>
            <a:xfrm flipH="1" flipV="1">
              <a:off x="5050080" y="3504960"/>
              <a:ext cx="15120" cy="251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065560" y="3886560"/>
              <a:ext cx="2881800" cy="1976760"/>
            </a:xfrm>
            <a:custGeom>
              <a:avLst/>
              <a:gdLst/>
              <a:ahLst/>
              <a:rect l="l" t="t" r="r" b="b"/>
              <a:pathLst>
                <a:path w="1392" h="1216">
                  <a:moveTo>
                    <a:pt x="0" y="1216"/>
                  </a:moveTo>
                  <a:cubicBezTo>
                    <a:pt x="164" y="672"/>
                    <a:pt x="328" y="128"/>
                    <a:pt x="432" y="64"/>
                  </a:cubicBezTo>
                  <a:cubicBezTo>
                    <a:pt x="536" y="0"/>
                    <a:pt x="560" y="768"/>
                    <a:pt x="624" y="832"/>
                  </a:cubicBezTo>
                  <a:cubicBezTo>
                    <a:pt x="688" y="896"/>
                    <a:pt x="752" y="448"/>
                    <a:pt x="816" y="448"/>
                  </a:cubicBezTo>
                  <a:cubicBezTo>
                    <a:pt x="880" y="448"/>
                    <a:pt x="952" y="792"/>
                    <a:pt x="1008" y="832"/>
                  </a:cubicBezTo>
                  <a:cubicBezTo>
                    <a:pt x="1064" y="872"/>
                    <a:pt x="1104" y="688"/>
                    <a:pt x="1152" y="688"/>
                  </a:cubicBezTo>
                  <a:cubicBezTo>
                    <a:pt x="1200" y="688"/>
                    <a:pt x="1256" y="816"/>
                    <a:pt x="1296" y="832"/>
                  </a:cubicBezTo>
                  <a:cubicBezTo>
                    <a:pt x="1336" y="848"/>
                    <a:pt x="1376" y="792"/>
                    <a:pt x="1392" y="784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860080" y="5239800"/>
              <a:ext cx="218664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755040" y="4614840"/>
              <a:ext cx="9925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959440" y="3990600"/>
              <a:ext cx="79524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356880" y="3990600"/>
              <a:ext cx="0" cy="1249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151400" y="4614840"/>
              <a:ext cx="0" cy="624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357600" y="414612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152480" y="4692600"/>
              <a:ext cx="56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/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408720" y="5321520"/>
              <a:ext cx="698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630120" y="5426280"/>
              <a:ext cx="45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u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572000" y="5843160"/>
              <a:ext cx="4114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372000" y="5251680"/>
              <a:ext cx="0" cy="5238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143840" y="5251680"/>
              <a:ext cx="0" cy="5238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422424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33872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67200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304920" y="3886200"/>
            <a:ext cx="4190760" cy="1967040"/>
            <a:chOff x="304920" y="3886200"/>
            <a:chExt cx="4190760" cy="1967040"/>
          </a:xfrm>
        </p:grpSpPr>
        <p:sp>
          <p:nvSpPr>
            <p:cNvPr id="174" name=""/>
            <p:cNvSpPr/>
            <p:nvPr/>
          </p:nvSpPr>
          <p:spPr>
            <a:xfrm>
              <a:off x="304920" y="3886200"/>
              <a:ext cx="1066680" cy="18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P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PI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PID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75" name=""/>
            <p:cNvGraphicFramePr/>
            <p:nvPr/>
          </p:nvGraphicFramePr>
          <p:xfrm>
            <a:off x="990720" y="3933720"/>
            <a:ext cx="1218960" cy="4510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76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990720" y="3933720"/>
                      <a:ext cx="1218960" cy="451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77" name=""/>
            <p:cNvGraphicFramePr/>
            <p:nvPr/>
          </p:nvGraphicFramePr>
          <p:xfrm>
            <a:off x="1066680" y="4572000"/>
            <a:ext cx="2082960" cy="4507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78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1066680" y="4572000"/>
                      <a:ext cx="2082960" cy="450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79" name=""/>
            <p:cNvGraphicFramePr/>
            <p:nvPr/>
          </p:nvGraphicFramePr>
          <p:xfrm>
            <a:off x="1143000" y="5105520"/>
            <a:ext cx="3352680" cy="74772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80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1143000" y="5105520"/>
                      <a:ext cx="3352680" cy="747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3138F-3478-401C-B0D1-EDF196A22B1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1378800" y="922320"/>
            <a:ext cx="572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Σ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ΥΣΤΗΜΑΤΑ </a:t>
            </a: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Α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ΥΤΟΜΑΤΟΥ </a:t>
            </a: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Ε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ΛΕΓΧΟΥ </a:t>
            </a: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Ι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5640" y="6415200"/>
            <a:ext cx="301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5</a:t>
            </a: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η ΕΒΔΟΜΑΔΑ ΔΙΑΛΕΞΕΩ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8535960" y="6477120"/>
            <a:ext cx="33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150920" y="617400"/>
            <a:ext cx="779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47660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221840" y="1905120"/>
            <a:ext cx="452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Times New Roman"/>
              </a:rPr>
              <a:t>ΥΛΟΠΟΙΗΣΗ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ID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</a:rPr>
              <a:t> ΕΛΕΓΚΤΩ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22424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17204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22424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67200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4116240" y="3962520"/>
            <a:ext cx="4982400" cy="2895120"/>
            <a:chOff x="4116240" y="3962520"/>
            <a:chExt cx="4982400" cy="2895120"/>
          </a:xfrm>
        </p:grpSpPr>
        <p:sp>
          <p:nvSpPr>
            <p:cNvPr id="192" name=""/>
            <p:cNvSpPr/>
            <p:nvPr/>
          </p:nvSpPr>
          <p:spPr>
            <a:xfrm flipV="1">
              <a:off x="4563000" y="4031280"/>
              <a:ext cx="0" cy="282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242600" y="5547960"/>
              <a:ext cx="4615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 flipV="1">
              <a:off x="4691160" y="4651560"/>
              <a:ext cx="2051640" cy="1792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743160" y="4651920"/>
              <a:ext cx="12819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743160" y="4651920"/>
              <a:ext cx="0" cy="965160"/>
            </a:xfrm>
            <a:prstGeom prst="line">
              <a:avLst/>
            </a:prstGeom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116240" y="396252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8716680" y="5516280"/>
              <a:ext cx="381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400" spc="-1" strike="noStrike">
                  <a:solidFill>
                    <a:srgbClr val="000000"/>
                  </a:solidFill>
                  <a:latin typeface="Times New Roman"/>
                </a:rPr>
                <a:t>ω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230520" y="5134680"/>
              <a:ext cx="191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V="1">
              <a:off x="6422760" y="4927320"/>
              <a:ext cx="0" cy="207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6423480" y="4858920"/>
              <a:ext cx="1474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000" spc="-1" strike="noStrike">
                  <a:solidFill>
                    <a:srgbClr val="000000"/>
                  </a:solidFill>
                  <a:latin typeface="Times New Roman"/>
                </a:rPr>
                <a:t>+-20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b/de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V="1">
              <a:off x="6706440" y="4040280"/>
              <a:ext cx="878400" cy="626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03" name=""/>
            <p:cNvGraphicFramePr/>
            <p:nvPr/>
          </p:nvGraphicFramePr>
          <p:xfrm>
            <a:off x="7760880" y="4823280"/>
            <a:ext cx="658800" cy="4424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0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7760880" y="4823280"/>
                      <a:ext cx="658800" cy="44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05" name=""/>
            <p:cNvGraphicFramePr/>
            <p:nvPr/>
          </p:nvGraphicFramePr>
          <p:xfrm>
            <a:off x="7584840" y="4079880"/>
            <a:ext cx="351360" cy="2653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06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584840" y="4079880"/>
                      <a:ext cx="351360" cy="265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07" name=""/>
            <p:cNvGraphicFramePr/>
            <p:nvPr/>
          </p:nvGraphicFramePr>
          <p:xfrm>
            <a:off x="6625800" y="5644800"/>
            <a:ext cx="380520" cy="44244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08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625800" y="5644800"/>
                      <a:ext cx="380520" cy="44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09" name=""/>
            <p:cNvSpPr/>
            <p:nvPr/>
          </p:nvSpPr>
          <p:spPr>
            <a:xfrm>
              <a:off x="7673040" y="4666680"/>
              <a:ext cx="175320" cy="195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2888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5867280" y="1905120"/>
          <a:ext cx="2743200" cy="7588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867280" y="1905120"/>
                    <a:ext cx="2743200" cy="75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3" name=""/>
          <p:cNvSpPr/>
          <p:nvPr/>
        </p:nvSpPr>
        <p:spPr>
          <a:xfrm>
            <a:off x="380880" y="2438280"/>
            <a:ext cx="67820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2-ΜΗΔΕΝΙΚΑ και 1-ΠΟΛΟΣ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ΑΛΛΑΓΗ ΣΤΟΝ ΤΡΟΠΟ ΥΛΟΠΟΙΗΣΗΣ ΤΟΥ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-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ΟΡΟ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04812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304920" y="3200400"/>
          <a:ext cx="5181480" cy="7826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16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04920" y="3200400"/>
                    <a:ext cx="5181480" cy="78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17" name=""/>
          <p:cNvGrpSpPr/>
          <p:nvPr/>
        </p:nvGrpSpPr>
        <p:grpSpPr>
          <a:xfrm>
            <a:off x="457200" y="4038480"/>
            <a:ext cx="2057400" cy="380880"/>
            <a:chOff x="457200" y="4038480"/>
            <a:chExt cx="2057400" cy="380880"/>
          </a:xfrm>
        </p:grpSpPr>
        <p:graphicFrame>
          <p:nvGraphicFramePr>
            <p:cNvPr id="218" name=""/>
            <p:cNvGraphicFramePr/>
            <p:nvPr/>
          </p:nvGraphicFramePr>
          <p:xfrm>
            <a:off x="1143000" y="4113000"/>
            <a:ext cx="1371600" cy="30636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21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1143000" y="4113000"/>
                      <a:ext cx="1371600" cy="306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20" name=""/>
            <p:cNvSpPr/>
            <p:nvPr/>
          </p:nvSpPr>
          <p:spPr>
            <a:xfrm>
              <a:off x="457200" y="40384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Times New Roman"/>
                </a:rPr>
                <a:t>όπου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59D73-E511-4854-80B7-E9CB6060C89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1378800" y="922320"/>
            <a:ext cx="572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Σ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ΥΣΤΗΜΑΤΑ </a:t>
            </a: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Α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ΥΤΟΜΑΤΟΥ </a:t>
            </a: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Ε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ΛΕΓΧΟΥ </a:t>
            </a: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Ι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5640" y="6415200"/>
            <a:ext cx="301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5</a:t>
            </a: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η ΕΒΔΟΜΑΔΑ ΔΙΑΛΕΞΕΩ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8535960" y="6477120"/>
            <a:ext cx="33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150920" y="617400"/>
            <a:ext cx="779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7660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24800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8200" y="1832040"/>
            <a:ext cx="414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Times New Roman"/>
              </a:rPr>
              <a:t>Βελτιστοποίησης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ID-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</a:rPr>
              <a:t>ελεγκτ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90040" y="2400480"/>
            <a:ext cx="76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Η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Z-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μέθοδος παρέχει όρια εντός των οποίων βρίσκονται οι 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και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παράμετρο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96520" y="2781360"/>
            <a:ext cx="645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Θέσπιση κριτηρίων για βελτιστοποιημένη επιλογή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ID-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παραμέτρω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69960" y="3214800"/>
            <a:ext cx="262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Υιοθέτηση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gral Error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32432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2" name=""/>
          <p:cNvGraphicFramePr/>
          <p:nvPr/>
        </p:nvGraphicFramePr>
        <p:xfrm>
          <a:off x="3198960" y="3135240"/>
          <a:ext cx="900000" cy="525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98960" y="3135240"/>
                    <a:ext cx="900000" cy="52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4" name=""/>
          <p:cNvGraphicFramePr/>
          <p:nvPr/>
        </p:nvGraphicFramePr>
        <p:xfrm>
          <a:off x="4257720" y="3138480"/>
          <a:ext cx="1447920" cy="512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57720" y="3138480"/>
                    <a:ext cx="1447920" cy="51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6" name=""/>
          <p:cNvSpPr/>
          <p:nvPr/>
        </p:nvSpPr>
        <p:spPr>
          <a:xfrm>
            <a:off x="4569120" y="4038480"/>
            <a:ext cx="467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Τίθεται θέμα με αποκρίσεις υποαποσβενυμένω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συστημάτων, όπου προστίθενται τα εμβαδά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7" name=""/>
          <p:cNvGraphicFramePr/>
          <p:nvPr/>
        </p:nvGraphicFramePr>
        <p:xfrm>
          <a:off x="4724280" y="4724280"/>
          <a:ext cx="1320840" cy="525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3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724280" y="4724280"/>
                    <a:ext cx="1320840" cy="52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9" name=""/>
          <p:cNvGraphicFramePr/>
          <p:nvPr/>
        </p:nvGraphicFramePr>
        <p:xfrm>
          <a:off x="6248520" y="4691160"/>
          <a:ext cx="1520640" cy="566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4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248520" y="4691160"/>
                    <a:ext cx="1520640" cy="56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1" name=""/>
          <p:cNvSpPr/>
          <p:nvPr/>
        </p:nvSpPr>
        <p:spPr>
          <a:xfrm>
            <a:off x="4632480" y="5524560"/>
            <a:ext cx="279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Δεν παρέχεται εγγύηση ότι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5715000" y="5867280"/>
          <a:ext cx="1295280" cy="5097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4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715000" y="5867280"/>
                    <a:ext cx="1295280" cy="50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44" name="" descr=""/>
          <p:cNvPicPr/>
          <p:nvPr/>
        </p:nvPicPr>
        <p:blipFill>
          <a:blip r:embed="rId11"/>
          <a:stretch/>
        </p:blipFill>
        <p:spPr>
          <a:xfrm>
            <a:off x="50760" y="3614760"/>
            <a:ext cx="4597560" cy="2808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991FC-58AB-4089-B63B-4823F3B918E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1378800" y="922320"/>
            <a:ext cx="572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Σ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ΥΣΤΗΜΑΤΑ </a:t>
            </a: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Α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ΥΤΟΜΑΤΟΥ </a:t>
            </a: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Ε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ΛΕΓΧΟΥ </a:t>
            </a: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Ι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5640" y="6415200"/>
            <a:ext cx="301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5</a:t>
            </a: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η ΕΒΔΟΜΑΔΑ ΔΙΑΛΕΞΕΩ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8535960" y="6477120"/>
            <a:ext cx="33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50920" y="617400"/>
            <a:ext cx="779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47660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24800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837360" y="1952640"/>
            <a:ext cx="339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Υιοθέτηση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gral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quare Error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2" name=""/>
          <p:cNvGraphicFramePr/>
          <p:nvPr/>
        </p:nvGraphicFramePr>
        <p:xfrm>
          <a:off x="4105440" y="1828800"/>
          <a:ext cx="1000080" cy="525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05440" y="1828800"/>
                    <a:ext cx="1000080" cy="52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4" name=""/>
          <p:cNvGraphicFramePr/>
          <p:nvPr/>
        </p:nvGraphicFramePr>
        <p:xfrm>
          <a:off x="5049720" y="1828800"/>
          <a:ext cx="1559160" cy="512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49720" y="1828800"/>
                    <a:ext cx="1559160" cy="51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6" name=""/>
          <p:cNvSpPr/>
          <p:nvPr/>
        </p:nvSpPr>
        <p:spPr>
          <a:xfrm>
            <a:off x="837000" y="2489040"/>
            <a:ext cx="402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Υιοθέτηση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gral Absolute Error IAE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7" name=""/>
          <p:cNvGraphicFramePr/>
          <p:nvPr/>
        </p:nvGraphicFramePr>
        <p:xfrm>
          <a:off x="4689360" y="2367000"/>
          <a:ext cx="1000080" cy="525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5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689360" y="2367000"/>
                    <a:ext cx="1000080" cy="52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9" name=""/>
          <p:cNvGraphicFramePr/>
          <p:nvPr/>
        </p:nvGraphicFramePr>
        <p:xfrm>
          <a:off x="5802480" y="2395440"/>
          <a:ext cx="1558800" cy="513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6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802480" y="2395440"/>
                    <a:ext cx="1558800" cy="51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1" name=""/>
          <p:cNvSpPr/>
          <p:nvPr/>
        </p:nvSpPr>
        <p:spPr>
          <a:xfrm>
            <a:off x="835920" y="2989440"/>
            <a:ext cx="461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Υιοθέτηση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Integral Time Varying AE ITVAE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2" name=""/>
          <p:cNvGraphicFramePr/>
          <p:nvPr/>
        </p:nvGraphicFramePr>
        <p:xfrm>
          <a:off x="5376960" y="2867040"/>
          <a:ext cx="1100160" cy="5256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6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376960" y="2867040"/>
                    <a:ext cx="1100160" cy="52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4" name=""/>
          <p:cNvGraphicFramePr/>
          <p:nvPr/>
        </p:nvGraphicFramePr>
        <p:xfrm>
          <a:off x="6585120" y="2895480"/>
          <a:ext cx="1649160" cy="5130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65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585120" y="2895480"/>
                    <a:ext cx="1649160" cy="51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6" name=""/>
          <p:cNvSpPr/>
          <p:nvPr/>
        </p:nvSpPr>
        <p:spPr>
          <a:xfrm>
            <a:off x="1063440" y="3362400"/>
            <a:ext cx="7560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Στο κόστος προσμετράται με ιδιαίτερη βαρύτητα το σφάλμα σε μεταγενέστερες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χρονικές στιγμές          (σε σχέση με το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AE) 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η απόκριση του συστήματος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συγκλίνει ταχύτερα στην μόνιμη κατάσταση σε σχέση με το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AE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7" name=""/>
          <p:cNvGraphicFramePr/>
          <p:nvPr/>
        </p:nvGraphicFramePr>
        <p:xfrm>
          <a:off x="2752560" y="3605040"/>
          <a:ext cx="600120" cy="4050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68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752560" y="3605040"/>
                    <a:ext cx="600120" cy="40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9" name=""/>
          <p:cNvGraphicFramePr/>
          <p:nvPr/>
        </p:nvGraphicFramePr>
        <p:xfrm>
          <a:off x="2619360" y="3886200"/>
          <a:ext cx="3524400" cy="4762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70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2619360" y="3886200"/>
                    <a:ext cx="3524400" cy="47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71" name="" descr=""/>
          <p:cNvPicPr/>
          <p:nvPr/>
        </p:nvPicPr>
        <p:blipFill>
          <a:blip r:embed="rId17"/>
          <a:stretch/>
        </p:blipFill>
        <p:spPr>
          <a:xfrm>
            <a:off x="2895480" y="4629240"/>
            <a:ext cx="4876920" cy="2457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ECA5D-7AF8-4908-8988-2836F32EAF1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1378800" y="922320"/>
            <a:ext cx="572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Σ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ΥΣΤΗΜΑΤΑ </a:t>
            </a: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Α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ΥΤΟΜΑΤΟΥ </a:t>
            </a: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Ε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ΛΕΓΧΟΥ </a:t>
            </a: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Ι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5640" y="6415200"/>
            <a:ext cx="301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5</a:t>
            </a: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η ΕΒΔΟΜΑΔΑ ΔΙΑΛΕΞΕΩ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8535960" y="6477120"/>
            <a:ext cx="33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150920" y="617400"/>
            <a:ext cx="779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47660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221840" y="1905120"/>
            <a:ext cx="452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Times New Roman"/>
              </a:rPr>
              <a:t>ΥΛΟΠΟΙΗΣΗ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ID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</a:rPr>
              <a:t> ΕΛΕΓΚΤΩ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22424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17204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22424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67200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72888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04812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09480" y="2514600"/>
            <a:ext cx="739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Για συστήματα που συναντώνται σε πετροχημικές διεργασίες η απόκριση σε βηματική διέγερση έχει τη μορφή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5" name=""/>
          <p:cNvGrpSpPr/>
          <p:nvPr/>
        </p:nvGrpSpPr>
        <p:grpSpPr>
          <a:xfrm>
            <a:off x="3352680" y="3885840"/>
            <a:ext cx="4724280" cy="2456280"/>
            <a:chOff x="3352680" y="3885840"/>
            <a:chExt cx="4724280" cy="2456280"/>
          </a:xfrm>
        </p:grpSpPr>
        <p:sp>
          <p:nvSpPr>
            <p:cNvPr id="286" name=""/>
            <p:cNvSpPr/>
            <p:nvPr/>
          </p:nvSpPr>
          <p:spPr>
            <a:xfrm flipV="1">
              <a:off x="4582440" y="3885840"/>
              <a:ext cx="0" cy="2361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388040" y="5790960"/>
              <a:ext cx="3688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5294160" y="4687560"/>
              <a:ext cx="2621160" cy="1103040"/>
            </a:xfrm>
            <a:custGeom>
              <a:avLst/>
              <a:gdLst/>
              <a:ahLst/>
              <a:rect l="l" t="t" r="r" b="b"/>
              <a:pathLst>
                <a:path w="1944" h="695">
                  <a:moveTo>
                    <a:pt x="0" y="695"/>
                  </a:moveTo>
                  <a:cubicBezTo>
                    <a:pt x="101" y="612"/>
                    <a:pt x="317" y="308"/>
                    <a:pt x="608" y="197"/>
                  </a:cubicBezTo>
                  <a:cubicBezTo>
                    <a:pt x="899" y="86"/>
                    <a:pt x="1544" y="54"/>
                    <a:pt x="1744" y="27"/>
                  </a:cubicBezTo>
                  <a:cubicBezTo>
                    <a:pt x="1944" y="0"/>
                    <a:pt x="1795" y="33"/>
                    <a:pt x="1808" y="35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582440" y="4647960"/>
              <a:ext cx="3235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517640" y="5181480"/>
              <a:ext cx="135900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876640" y="5181480"/>
              <a:ext cx="0" cy="609120"/>
            </a:xfrm>
            <a:prstGeom prst="line">
              <a:avLst/>
            </a:prstGeom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829400" y="5881320"/>
              <a:ext cx="336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294160" y="5790960"/>
              <a:ext cx="0" cy="380520"/>
            </a:xfrm>
            <a:prstGeom prst="line">
              <a:avLst/>
            </a:prstGeom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4582440" y="5943240"/>
              <a:ext cx="711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358960" y="5943240"/>
              <a:ext cx="517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488200" y="5943240"/>
              <a:ext cx="258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999960" y="4114440"/>
              <a:ext cx="58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Ks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3352680" y="4800240"/>
              <a:ext cx="1230840" cy="116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Kss(1-e)=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0.6379 Ks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523920" y="4876560"/>
              <a:ext cx="1164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y(t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1600200" y="3276720"/>
            <a:ext cx="2666520" cy="761760"/>
            <a:chOff x="1600200" y="3276720"/>
            <a:chExt cx="2666520" cy="761760"/>
          </a:xfrm>
        </p:grpSpPr>
        <p:sp>
          <p:nvSpPr>
            <p:cNvPr id="301" name=""/>
            <p:cNvSpPr/>
            <p:nvPr/>
          </p:nvSpPr>
          <p:spPr>
            <a:xfrm>
              <a:off x="1600200" y="3611880"/>
              <a:ext cx="711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311200" y="3276720"/>
              <a:ext cx="1391400" cy="761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3733560" y="3611880"/>
              <a:ext cx="533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4" name=""/>
          <p:cNvSpPr/>
          <p:nvPr/>
        </p:nvSpPr>
        <p:spPr>
          <a:xfrm>
            <a:off x="421956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5" name=""/>
          <p:cNvGraphicFramePr/>
          <p:nvPr/>
        </p:nvGraphicFramePr>
        <p:xfrm>
          <a:off x="2362320" y="3262320"/>
          <a:ext cx="1218960" cy="725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3262320"/>
                    <a:ext cx="1218960" cy="72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7" name=""/>
          <p:cNvSpPr/>
          <p:nvPr/>
        </p:nvSpPr>
        <p:spPr>
          <a:xfrm>
            <a:off x="387180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8" name=""/>
          <p:cNvGraphicFramePr/>
          <p:nvPr/>
        </p:nvGraphicFramePr>
        <p:xfrm>
          <a:off x="3962520" y="3200400"/>
          <a:ext cx="2438280" cy="484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0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62520" y="3200400"/>
                    <a:ext cx="243828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0" name=""/>
          <p:cNvSpPr/>
          <p:nvPr/>
        </p:nvSpPr>
        <p:spPr>
          <a:xfrm>
            <a:off x="426240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685800" y="3228840"/>
          <a:ext cx="1219320" cy="395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1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85800" y="3228840"/>
                    <a:ext cx="1219320" cy="3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2DC4F-C7D6-48BC-A829-57391BCAB12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1378800" y="922320"/>
            <a:ext cx="572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Σ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ΥΣΤΗΜΑΤΑ </a:t>
            </a: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Α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ΥΤΟΜΑΤΟΥ </a:t>
            </a: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Ε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ΛΕΓΧΟΥ </a:t>
            </a: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Ι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5640" y="6415200"/>
            <a:ext cx="301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5</a:t>
            </a: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η ΕΒΔΟΜΑΔΑ ΔΙΑΛΕΞΕΩ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8535960" y="6477120"/>
            <a:ext cx="33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150920" y="617400"/>
            <a:ext cx="779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47660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221840" y="1905120"/>
            <a:ext cx="452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Times New Roman"/>
              </a:rPr>
              <a:t>ΥΛΟΠΟΙΗΣΗ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ID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</a:rPr>
              <a:t> ΕΛΕΓΚΤΩ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422424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17204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422424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67200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72888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04812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412920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6" name=""/>
          <p:cNvGrpSpPr/>
          <p:nvPr/>
        </p:nvGrpSpPr>
        <p:grpSpPr>
          <a:xfrm>
            <a:off x="1371600" y="2590920"/>
            <a:ext cx="5714640" cy="3428280"/>
            <a:chOff x="1371600" y="2590920"/>
            <a:chExt cx="5714640" cy="3428280"/>
          </a:xfrm>
        </p:grpSpPr>
        <p:sp>
          <p:nvSpPr>
            <p:cNvPr id="327" name=""/>
            <p:cNvSpPr/>
            <p:nvPr/>
          </p:nvSpPr>
          <p:spPr>
            <a:xfrm flipV="1">
              <a:off x="2409840" y="2590920"/>
              <a:ext cx="0" cy="32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917360" y="5529240"/>
              <a:ext cx="5168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409840" y="3752640"/>
              <a:ext cx="4540320" cy="1776600"/>
            </a:xfrm>
            <a:custGeom>
              <a:avLst/>
              <a:gdLst/>
              <a:ahLst/>
              <a:rect l="l" t="t" r="r" b="b"/>
              <a:pathLst>
                <a:path w="2656" h="871">
                  <a:moveTo>
                    <a:pt x="0" y="871"/>
                  </a:moveTo>
                  <a:cubicBezTo>
                    <a:pt x="115" y="848"/>
                    <a:pt x="498" y="817"/>
                    <a:pt x="690" y="732"/>
                  </a:cubicBezTo>
                  <a:cubicBezTo>
                    <a:pt x="882" y="647"/>
                    <a:pt x="980" y="471"/>
                    <a:pt x="1153" y="359"/>
                  </a:cubicBezTo>
                  <a:cubicBezTo>
                    <a:pt x="1326" y="247"/>
                    <a:pt x="1501" y="116"/>
                    <a:pt x="1729" y="58"/>
                  </a:cubicBezTo>
                  <a:cubicBezTo>
                    <a:pt x="1957" y="0"/>
                    <a:pt x="2392" y="18"/>
                    <a:pt x="2524" y="10"/>
                  </a:cubicBezTo>
                  <a:cubicBezTo>
                    <a:pt x="2656" y="2"/>
                    <a:pt x="2524" y="10"/>
                    <a:pt x="2524" y="1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 flipH="1" flipV="1">
              <a:off x="2409480" y="3766680"/>
              <a:ext cx="4419000" cy="1656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 flipV="1">
              <a:off x="2902320" y="2982600"/>
              <a:ext cx="2953800" cy="3036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 flipH="1">
              <a:off x="2409840" y="4549680"/>
              <a:ext cx="18864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4296600" y="4549680"/>
              <a:ext cx="0" cy="97920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722760" y="5138640"/>
              <a:ext cx="0" cy="39024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2491200" y="5236200"/>
              <a:ext cx="11487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3722760" y="5236200"/>
              <a:ext cx="5734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884680" y="4667760"/>
              <a:ext cx="336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998160" y="4980600"/>
              <a:ext cx="32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1839240" y="3416040"/>
              <a:ext cx="621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Ks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1371600" y="4337280"/>
              <a:ext cx="981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Kss(1-e</a:t>
              </a:r>
              <a:r>
                <a:rPr b="0" i="1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-1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2B503-F4EE-4229-899A-A490762A8F2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/>
          <p:nvPr/>
        </p:nvSpPr>
        <p:spPr>
          <a:xfrm>
            <a:off x="1378800" y="922320"/>
            <a:ext cx="572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Σ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ΥΣΤΗΜΑΤΑ </a:t>
            </a: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Α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ΥΤΟΜΑΤΟΥ </a:t>
            </a: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Ε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ΛΕΓΧΟΥ </a:t>
            </a: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Ι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5640" y="6415200"/>
            <a:ext cx="301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5</a:t>
            </a: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η ΕΒΔΟΜΑΔΑ ΔΙΑΛΕΞΕΩ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8535960" y="6477120"/>
            <a:ext cx="33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150920" y="617400"/>
            <a:ext cx="779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47660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914400" y="182880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Times New Roman"/>
              </a:rPr>
              <a:t>Μέθοδος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opez-Murril (1967) 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</a:rPr>
              <a:t>για Υπολογισμό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ID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</a:rPr>
              <a:t> Παραμέτρω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22424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417204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422424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67200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72888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304812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3" name=""/>
          <p:cNvGraphicFramePr/>
          <p:nvPr/>
        </p:nvGraphicFramePr>
        <p:xfrm>
          <a:off x="3124080" y="2209680"/>
          <a:ext cx="1905120" cy="73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24080" y="2209680"/>
                    <a:ext cx="1905120" cy="73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55" name=""/>
          <p:cNvGrpSpPr/>
          <p:nvPr/>
        </p:nvGrpSpPr>
        <p:grpSpPr>
          <a:xfrm>
            <a:off x="457200" y="3124080"/>
            <a:ext cx="3580920" cy="3192480"/>
            <a:chOff x="457200" y="3124080"/>
            <a:chExt cx="3580920" cy="3192480"/>
          </a:xfrm>
        </p:grpSpPr>
        <p:grpSp>
          <p:nvGrpSpPr>
            <p:cNvPr id="356" name=""/>
            <p:cNvGrpSpPr/>
            <p:nvPr/>
          </p:nvGrpSpPr>
          <p:grpSpPr>
            <a:xfrm>
              <a:off x="463320" y="3127320"/>
              <a:ext cx="3567240" cy="3185640"/>
              <a:chOff x="463320" y="3127320"/>
              <a:chExt cx="3567240" cy="3185640"/>
            </a:xfrm>
          </p:grpSpPr>
          <p:grpSp>
            <p:nvGrpSpPr>
              <p:cNvPr id="357" name=""/>
              <p:cNvGrpSpPr/>
              <p:nvPr/>
            </p:nvGrpSpPr>
            <p:grpSpPr>
              <a:xfrm>
                <a:off x="463320" y="3127320"/>
                <a:ext cx="537480" cy="455040"/>
                <a:chOff x="463320" y="3127320"/>
                <a:chExt cx="537480" cy="455040"/>
              </a:xfrm>
            </p:grpSpPr>
            <p:sp>
              <p:nvSpPr>
                <p:cNvPr id="358" name=""/>
                <p:cNvSpPr/>
                <p:nvPr/>
              </p:nvSpPr>
              <p:spPr>
                <a:xfrm>
                  <a:off x="555120" y="3127320"/>
                  <a:ext cx="354240" cy="45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9" name=""/>
                <p:cNvSpPr/>
                <p:nvPr/>
              </p:nvSpPr>
              <p:spPr>
                <a:xfrm>
                  <a:off x="463320" y="3127320"/>
                  <a:ext cx="537480" cy="455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0" name=""/>
              <p:cNvGrpSpPr/>
              <p:nvPr/>
            </p:nvGrpSpPr>
            <p:grpSpPr>
              <a:xfrm>
                <a:off x="1001160" y="3127320"/>
                <a:ext cx="1009440" cy="455040"/>
                <a:chOff x="1001160" y="3127320"/>
                <a:chExt cx="1009440" cy="455040"/>
              </a:xfrm>
            </p:grpSpPr>
            <p:sp>
              <p:nvSpPr>
                <p:cNvPr id="361" name=""/>
                <p:cNvSpPr/>
                <p:nvPr/>
              </p:nvSpPr>
              <p:spPr>
                <a:xfrm>
                  <a:off x="1092960" y="3127320"/>
                  <a:ext cx="825480" cy="45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IS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>
                  <a:off x="1001160" y="3127320"/>
                  <a:ext cx="1009440" cy="455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3" name=""/>
              <p:cNvGrpSpPr/>
              <p:nvPr/>
            </p:nvGrpSpPr>
            <p:grpSpPr>
              <a:xfrm>
                <a:off x="2011320" y="3127320"/>
                <a:ext cx="1009440" cy="455040"/>
                <a:chOff x="2011320" y="3127320"/>
                <a:chExt cx="1009440" cy="455040"/>
              </a:xfrm>
            </p:grpSpPr>
            <p:sp>
              <p:nvSpPr>
                <p:cNvPr id="364" name=""/>
                <p:cNvSpPr/>
                <p:nvPr/>
              </p:nvSpPr>
              <p:spPr>
                <a:xfrm>
                  <a:off x="2103120" y="3127320"/>
                  <a:ext cx="825480" cy="45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IA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5" name=""/>
                <p:cNvSpPr/>
                <p:nvPr/>
              </p:nvSpPr>
              <p:spPr>
                <a:xfrm>
                  <a:off x="2011320" y="3127320"/>
                  <a:ext cx="1009440" cy="455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6" name=""/>
              <p:cNvGrpSpPr/>
              <p:nvPr/>
            </p:nvGrpSpPr>
            <p:grpSpPr>
              <a:xfrm>
                <a:off x="3021120" y="3127320"/>
                <a:ext cx="1009440" cy="455040"/>
                <a:chOff x="3021120" y="3127320"/>
                <a:chExt cx="1009440" cy="455040"/>
              </a:xfrm>
            </p:grpSpPr>
            <p:sp>
              <p:nvSpPr>
                <p:cNvPr id="367" name=""/>
                <p:cNvSpPr/>
                <p:nvPr/>
              </p:nvSpPr>
              <p:spPr>
                <a:xfrm>
                  <a:off x="3112560" y="3127320"/>
                  <a:ext cx="826200" cy="45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ITA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8" name=""/>
                <p:cNvSpPr/>
                <p:nvPr/>
              </p:nvSpPr>
              <p:spPr>
                <a:xfrm>
                  <a:off x="3021120" y="3127320"/>
                  <a:ext cx="1009440" cy="455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9" name=""/>
              <p:cNvGrpSpPr/>
              <p:nvPr/>
            </p:nvGrpSpPr>
            <p:grpSpPr>
              <a:xfrm>
                <a:off x="463320" y="3582360"/>
                <a:ext cx="537480" cy="455040"/>
                <a:chOff x="463320" y="3582360"/>
                <a:chExt cx="537480" cy="455040"/>
              </a:xfrm>
            </p:grpSpPr>
            <p:sp>
              <p:nvSpPr>
                <p:cNvPr id="370" name=""/>
                <p:cNvSpPr/>
                <p:nvPr/>
              </p:nvSpPr>
              <p:spPr>
                <a:xfrm>
                  <a:off x="555120" y="3582360"/>
                  <a:ext cx="354240" cy="45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l-GR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α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1" name=""/>
                <p:cNvSpPr/>
                <p:nvPr/>
              </p:nvSpPr>
              <p:spPr>
                <a:xfrm>
                  <a:off x="463320" y="3582360"/>
                  <a:ext cx="537480" cy="455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2" name=""/>
              <p:cNvGrpSpPr/>
              <p:nvPr/>
            </p:nvGrpSpPr>
            <p:grpSpPr>
              <a:xfrm>
                <a:off x="1001160" y="3582360"/>
                <a:ext cx="1009440" cy="455040"/>
                <a:chOff x="1001160" y="3582360"/>
                <a:chExt cx="1009440" cy="455040"/>
              </a:xfrm>
            </p:grpSpPr>
            <p:sp>
              <p:nvSpPr>
                <p:cNvPr id="373" name=""/>
                <p:cNvSpPr/>
                <p:nvPr/>
              </p:nvSpPr>
              <p:spPr>
                <a:xfrm>
                  <a:off x="1092960" y="3582360"/>
                  <a:ext cx="825480" cy="45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l-GR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1,49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4" name=""/>
                <p:cNvSpPr/>
                <p:nvPr/>
              </p:nvSpPr>
              <p:spPr>
                <a:xfrm>
                  <a:off x="1001160" y="3582360"/>
                  <a:ext cx="1009440" cy="455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5" name=""/>
              <p:cNvGrpSpPr/>
              <p:nvPr/>
            </p:nvGrpSpPr>
            <p:grpSpPr>
              <a:xfrm>
                <a:off x="2011320" y="3582360"/>
                <a:ext cx="1009440" cy="455040"/>
                <a:chOff x="2011320" y="3582360"/>
                <a:chExt cx="1009440" cy="455040"/>
              </a:xfrm>
            </p:grpSpPr>
            <p:sp>
              <p:nvSpPr>
                <p:cNvPr id="376" name=""/>
                <p:cNvSpPr/>
                <p:nvPr/>
              </p:nvSpPr>
              <p:spPr>
                <a:xfrm>
                  <a:off x="2103120" y="3582360"/>
                  <a:ext cx="825480" cy="45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l-GR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1,43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7" name=""/>
                <p:cNvSpPr/>
                <p:nvPr/>
              </p:nvSpPr>
              <p:spPr>
                <a:xfrm>
                  <a:off x="2011320" y="3582360"/>
                  <a:ext cx="1009440" cy="455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8" name=""/>
              <p:cNvGrpSpPr/>
              <p:nvPr/>
            </p:nvGrpSpPr>
            <p:grpSpPr>
              <a:xfrm>
                <a:off x="3021120" y="3582360"/>
                <a:ext cx="1009440" cy="455040"/>
                <a:chOff x="3021120" y="3582360"/>
                <a:chExt cx="1009440" cy="455040"/>
              </a:xfrm>
            </p:grpSpPr>
            <p:sp>
              <p:nvSpPr>
                <p:cNvPr id="379" name=""/>
                <p:cNvSpPr/>
                <p:nvPr/>
              </p:nvSpPr>
              <p:spPr>
                <a:xfrm>
                  <a:off x="3112560" y="3582360"/>
                  <a:ext cx="826200" cy="45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l-GR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1,37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>
                  <a:off x="3021120" y="3582360"/>
                  <a:ext cx="1009440" cy="455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1" name=""/>
              <p:cNvGrpSpPr/>
              <p:nvPr/>
            </p:nvGrpSpPr>
            <p:grpSpPr>
              <a:xfrm>
                <a:off x="463320" y="4037400"/>
                <a:ext cx="537480" cy="455040"/>
                <a:chOff x="463320" y="4037400"/>
                <a:chExt cx="537480" cy="455040"/>
              </a:xfrm>
            </p:grpSpPr>
            <p:sp>
              <p:nvSpPr>
                <p:cNvPr id="382" name=""/>
                <p:cNvSpPr/>
                <p:nvPr/>
              </p:nvSpPr>
              <p:spPr>
                <a:xfrm>
                  <a:off x="555120" y="4037400"/>
                  <a:ext cx="354240" cy="45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l-GR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β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3" name=""/>
                <p:cNvSpPr/>
                <p:nvPr/>
              </p:nvSpPr>
              <p:spPr>
                <a:xfrm>
                  <a:off x="463320" y="4037400"/>
                  <a:ext cx="537480" cy="455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4" name=""/>
              <p:cNvGrpSpPr/>
              <p:nvPr/>
            </p:nvGrpSpPr>
            <p:grpSpPr>
              <a:xfrm>
                <a:off x="1001160" y="4037400"/>
                <a:ext cx="1009440" cy="455040"/>
                <a:chOff x="1001160" y="4037400"/>
                <a:chExt cx="1009440" cy="455040"/>
              </a:xfrm>
            </p:grpSpPr>
            <p:sp>
              <p:nvSpPr>
                <p:cNvPr id="385" name=""/>
                <p:cNvSpPr/>
                <p:nvPr/>
              </p:nvSpPr>
              <p:spPr>
                <a:xfrm>
                  <a:off x="1092960" y="4037400"/>
                  <a:ext cx="825480" cy="45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l-GR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-0,959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6" name=""/>
                <p:cNvSpPr/>
                <p:nvPr/>
              </p:nvSpPr>
              <p:spPr>
                <a:xfrm>
                  <a:off x="1001160" y="4037400"/>
                  <a:ext cx="1009440" cy="455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7" name=""/>
              <p:cNvGrpSpPr/>
              <p:nvPr/>
            </p:nvGrpSpPr>
            <p:grpSpPr>
              <a:xfrm>
                <a:off x="2011320" y="4037400"/>
                <a:ext cx="1009440" cy="455040"/>
                <a:chOff x="2011320" y="4037400"/>
                <a:chExt cx="1009440" cy="455040"/>
              </a:xfrm>
            </p:grpSpPr>
            <p:sp>
              <p:nvSpPr>
                <p:cNvPr id="388" name=""/>
                <p:cNvSpPr/>
                <p:nvPr/>
              </p:nvSpPr>
              <p:spPr>
                <a:xfrm>
                  <a:off x="2103120" y="4037400"/>
                  <a:ext cx="825480" cy="45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l-GR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-0,92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9" name=""/>
                <p:cNvSpPr/>
                <p:nvPr/>
              </p:nvSpPr>
              <p:spPr>
                <a:xfrm>
                  <a:off x="2011320" y="4037400"/>
                  <a:ext cx="1009440" cy="455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0" name=""/>
              <p:cNvGrpSpPr/>
              <p:nvPr/>
            </p:nvGrpSpPr>
            <p:grpSpPr>
              <a:xfrm>
                <a:off x="3021120" y="4037400"/>
                <a:ext cx="1009440" cy="455040"/>
                <a:chOff x="3021120" y="4037400"/>
                <a:chExt cx="1009440" cy="455040"/>
              </a:xfrm>
            </p:grpSpPr>
            <p:sp>
              <p:nvSpPr>
                <p:cNvPr id="391" name=""/>
                <p:cNvSpPr/>
                <p:nvPr/>
              </p:nvSpPr>
              <p:spPr>
                <a:xfrm>
                  <a:off x="3112560" y="4037400"/>
                  <a:ext cx="826200" cy="45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l-GR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-0,947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2" name=""/>
                <p:cNvSpPr/>
                <p:nvPr/>
              </p:nvSpPr>
              <p:spPr>
                <a:xfrm>
                  <a:off x="3021120" y="4037400"/>
                  <a:ext cx="1009440" cy="455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3" name=""/>
              <p:cNvGrpSpPr/>
              <p:nvPr/>
            </p:nvGrpSpPr>
            <p:grpSpPr>
              <a:xfrm>
                <a:off x="463320" y="4492440"/>
                <a:ext cx="537480" cy="455040"/>
                <a:chOff x="463320" y="4492440"/>
                <a:chExt cx="537480" cy="455040"/>
              </a:xfrm>
            </p:grpSpPr>
            <p:sp>
              <p:nvSpPr>
                <p:cNvPr id="394" name=""/>
                <p:cNvSpPr/>
                <p:nvPr/>
              </p:nvSpPr>
              <p:spPr>
                <a:xfrm>
                  <a:off x="555120" y="4492440"/>
                  <a:ext cx="354240" cy="45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l-GR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γ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5" name=""/>
                <p:cNvSpPr/>
                <p:nvPr/>
              </p:nvSpPr>
              <p:spPr>
                <a:xfrm>
                  <a:off x="463320" y="4492440"/>
                  <a:ext cx="537480" cy="455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6" name=""/>
              <p:cNvGrpSpPr/>
              <p:nvPr/>
            </p:nvGrpSpPr>
            <p:grpSpPr>
              <a:xfrm>
                <a:off x="1001160" y="4492440"/>
                <a:ext cx="1009440" cy="455040"/>
                <a:chOff x="1001160" y="4492440"/>
                <a:chExt cx="1009440" cy="455040"/>
              </a:xfrm>
            </p:grpSpPr>
            <p:sp>
              <p:nvSpPr>
                <p:cNvPr id="397" name=""/>
                <p:cNvSpPr/>
                <p:nvPr/>
              </p:nvSpPr>
              <p:spPr>
                <a:xfrm>
                  <a:off x="1092960" y="4492440"/>
                  <a:ext cx="825480" cy="45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l-GR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1,10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8" name=""/>
                <p:cNvSpPr/>
                <p:nvPr/>
              </p:nvSpPr>
              <p:spPr>
                <a:xfrm>
                  <a:off x="1001160" y="4492440"/>
                  <a:ext cx="1009440" cy="455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9" name=""/>
              <p:cNvGrpSpPr/>
              <p:nvPr/>
            </p:nvGrpSpPr>
            <p:grpSpPr>
              <a:xfrm>
                <a:off x="2011320" y="4492440"/>
                <a:ext cx="1009440" cy="455040"/>
                <a:chOff x="2011320" y="4492440"/>
                <a:chExt cx="1009440" cy="455040"/>
              </a:xfrm>
            </p:grpSpPr>
            <p:sp>
              <p:nvSpPr>
                <p:cNvPr id="400" name=""/>
                <p:cNvSpPr/>
                <p:nvPr/>
              </p:nvSpPr>
              <p:spPr>
                <a:xfrm>
                  <a:off x="2103120" y="4492440"/>
                  <a:ext cx="825480" cy="45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l-GR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0,878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1" name=""/>
                <p:cNvSpPr/>
                <p:nvPr/>
              </p:nvSpPr>
              <p:spPr>
                <a:xfrm>
                  <a:off x="2011320" y="4492440"/>
                  <a:ext cx="1009440" cy="455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2" name=""/>
              <p:cNvGrpSpPr/>
              <p:nvPr/>
            </p:nvGrpSpPr>
            <p:grpSpPr>
              <a:xfrm>
                <a:off x="3021120" y="4492440"/>
                <a:ext cx="1009440" cy="455040"/>
                <a:chOff x="3021120" y="4492440"/>
                <a:chExt cx="1009440" cy="455040"/>
              </a:xfrm>
            </p:grpSpPr>
            <p:sp>
              <p:nvSpPr>
                <p:cNvPr id="403" name=""/>
                <p:cNvSpPr/>
                <p:nvPr/>
              </p:nvSpPr>
              <p:spPr>
                <a:xfrm>
                  <a:off x="3112560" y="4492440"/>
                  <a:ext cx="826200" cy="45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l-GR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-0,84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4" name=""/>
                <p:cNvSpPr/>
                <p:nvPr/>
              </p:nvSpPr>
              <p:spPr>
                <a:xfrm>
                  <a:off x="3021120" y="4492440"/>
                  <a:ext cx="1009440" cy="455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5" name=""/>
              <p:cNvGrpSpPr/>
              <p:nvPr/>
            </p:nvGrpSpPr>
            <p:grpSpPr>
              <a:xfrm>
                <a:off x="463320" y="4947480"/>
                <a:ext cx="537480" cy="455040"/>
                <a:chOff x="463320" y="4947480"/>
                <a:chExt cx="537480" cy="455040"/>
              </a:xfrm>
            </p:grpSpPr>
            <p:sp>
              <p:nvSpPr>
                <p:cNvPr id="406" name=""/>
                <p:cNvSpPr/>
                <p:nvPr/>
              </p:nvSpPr>
              <p:spPr>
                <a:xfrm>
                  <a:off x="555120" y="4947480"/>
                  <a:ext cx="354240" cy="45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l-GR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δ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7" name=""/>
                <p:cNvSpPr/>
                <p:nvPr/>
              </p:nvSpPr>
              <p:spPr>
                <a:xfrm>
                  <a:off x="463320" y="4947480"/>
                  <a:ext cx="537480" cy="455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8" name=""/>
              <p:cNvGrpSpPr/>
              <p:nvPr/>
            </p:nvGrpSpPr>
            <p:grpSpPr>
              <a:xfrm>
                <a:off x="1001160" y="4947480"/>
                <a:ext cx="1009440" cy="455040"/>
                <a:chOff x="1001160" y="4947480"/>
                <a:chExt cx="1009440" cy="455040"/>
              </a:xfrm>
            </p:grpSpPr>
            <p:sp>
              <p:nvSpPr>
                <p:cNvPr id="409" name=""/>
                <p:cNvSpPr/>
                <p:nvPr/>
              </p:nvSpPr>
              <p:spPr>
                <a:xfrm>
                  <a:off x="1092960" y="4947480"/>
                  <a:ext cx="825480" cy="45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l-GR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0,77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0" name=""/>
                <p:cNvSpPr/>
                <p:nvPr/>
              </p:nvSpPr>
              <p:spPr>
                <a:xfrm>
                  <a:off x="1001160" y="4947480"/>
                  <a:ext cx="1009440" cy="455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1" name=""/>
              <p:cNvGrpSpPr/>
              <p:nvPr/>
            </p:nvGrpSpPr>
            <p:grpSpPr>
              <a:xfrm>
                <a:off x="2011320" y="4947480"/>
                <a:ext cx="1009440" cy="455040"/>
                <a:chOff x="2011320" y="4947480"/>
                <a:chExt cx="1009440" cy="455040"/>
              </a:xfrm>
            </p:grpSpPr>
            <p:sp>
              <p:nvSpPr>
                <p:cNvPr id="412" name=""/>
                <p:cNvSpPr/>
                <p:nvPr/>
              </p:nvSpPr>
              <p:spPr>
                <a:xfrm>
                  <a:off x="2103120" y="4947480"/>
                  <a:ext cx="825480" cy="45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l-GR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0,749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3" name=""/>
                <p:cNvSpPr/>
                <p:nvPr/>
              </p:nvSpPr>
              <p:spPr>
                <a:xfrm>
                  <a:off x="2011320" y="4947480"/>
                  <a:ext cx="1009440" cy="455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4" name=""/>
              <p:cNvGrpSpPr/>
              <p:nvPr/>
            </p:nvGrpSpPr>
            <p:grpSpPr>
              <a:xfrm>
                <a:off x="3021120" y="4947480"/>
                <a:ext cx="1009440" cy="455040"/>
                <a:chOff x="3021120" y="4947480"/>
                <a:chExt cx="1009440" cy="455040"/>
              </a:xfrm>
            </p:grpSpPr>
            <p:sp>
              <p:nvSpPr>
                <p:cNvPr id="415" name=""/>
                <p:cNvSpPr/>
                <p:nvPr/>
              </p:nvSpPr>
              <p:spPr>
                <a:xfrm>
                  <a:off x="3112560" y="4947480"/>
                  <a:ext cx="826200" cy="45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l-GR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0,738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6" name=""/>
                <p:cNvSpPr/>
                <p:nvPr/>
              </p:nvSpPr>
              <p:spPr>
                <a:xfrm>
                  <a:off x="3021120" y="4947480"/>
                  <a:ext cx="1009440" cy="455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7" name=""/>
              <p:cNvGrpSpPr/>
              <p:nvPr/>
            </p:nvGrpSpPr>
            <p:grpSpPr>
              <a:xfrm>
                <a:off x="463320" y="5402880"/>
                <a:ext cx="537480" cy="455040"/>
                <a:chOff x="463320" y="5402880"/>
                <a:chExt cx="537480" cy="455040"/>
              </a:xfrm>
            </p:grpSpPr>
            <p:sp>
              <p:nvSpPr>
                <p:cNvPr id="418" name=""/>
                <p:cNvSpPr/>
                <p:nvPr/>
              </p:nvSpPr>
              <p:spPr>
                <a:xfrm>
                  <a:off x="555120" y="5402880"/>
                  <a:ext cx="354240" cy="45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l-GR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ε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9" name=""/>
                <p:cNvSpPr/>
                <p:nvPr/>
              </p:nvSpPr>
              <p:spPr>
                <a:xfrm>
                  <a:off x="463320" y="5402880"/>
                  <a:ext cx="537480" cy="455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0" name=""/>
              <p:cNvGrpSpPr/>
              <p:nvPr/>
            </p:nvGrpSpPr>
            <p:grpSpPr>
              <a:xfrm>
                <a:off x="1001160" y="5402880"/>
                <a:ext cx="1009440" cy="455040"/>
                <a:chOff x="1001160" y="5402880"/>
                <a:chExt cx="1009440" cy="455040"/>
              </a:xfrm>
            </p:grpSpPr>
            <p:sp>
              <p:nvSpPr>
                <p:cNvPr id="421" name=""/>
                <p:cNvSpPr/>
                <p:nvPr/>
              </p:nvSpPr>
              <p:spPr>
                <a:xfrm>
                  <a:off x="1092960" y="5402880"/>
                  <a:ext cx="825480" cy="45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l-GR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0,56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2" name=""/>
                <p:cNvSpPr/>
                <p:nvPr/>
              </p:nvSpPr>
              <p:spPr>
                <a:xfrm>
                  <a:off x="1001160" y="5402880"/>
                  <a:ext cx="1009440" cy="455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3" name=""/>
              <p:cNvGrpSpPr/>
              <p:nvPr/>
            </p:nvGrpSpPr>
            <p:grpSpPr>
              <a:xfrm>
                <a:off x="2011320" y="5402880"/>
                <a:ext cx="1009440" cy="455040"/>
                <a:chOff x="2011320" y="5402880"/>
                <a:chExt cx="1009440" cy="455040"/>
              </a:xfrm>
            </p:grpSpPr>
            <p:sp>
              <p:nvSpPr>
                <p:cNvPr id="424" name=""/>
                <p:cNvSpPr/>
                <p:nvPr/>
              </p:nvSpPr>
              <p:spPr>
                <a:xfrm>
                  <a:off x="2103120" y="5402880"/>
                  <a:ext cx="825480" cy="45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l-GR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0,48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5" name=""/>
                <p:cNvSpPr/>
                <p:nvPr/>
              </p:nvSpPr>
              <p:spPr>
                <a:xfrm>
                  <a:off x="2011320" y="5402880"/>
                  <a:ext cx="1009440" cy="455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6" name=""/>
              <p:cNvGrpSpPr/>
              <p:nvPr/>
            </p:nvGrpSpPr>
            <p:grpSpPr>
              <a:xfrm>
                <a:off x="3021120" y="5402880"/>
                <a:ext cx="1009440" cy="455040"/>
                <a:chOff x="3021120" y="5402880"/>
                <a:chExt cx="1009440" cy="455040"/>
              </a:xfrm>
            </p:grpSpPr>
            <p:sp>
              <p:nvSpPr>
                <p:cNvPr id="427" name=""/>
                <p:cNvSpPr/>
                <p:nvPr/>
              </p:nvSpPr>
              <p:spPr>
                <a:xfrm>
                  <a:off x="3112560" y="5402880"/>
                  <a:ext cx="826200" cy="45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l-GR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0,38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8" name=""/>
                <p:cNvSpPr/>
                <p:nvPr/>
              </p:nvSpPr>
              <p:spPr>
                <a:xfrm>
                  <a:off x="3021120" y="5402880"/>
                  <a:ext cx="1009440" cy="455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9" name=""/>
              <p:cNvGrpSpPr/>
              <p:nvPr/>
            </p:nvGrpSpPr>
            <p:grpSpPr>
              <a:xfrm>
                <a:off x="463320" y="5857920"/>
                <a:ext cx="537480" cy="455040"/>
                <a:chOff x="463320" y="5857920"/>
                <a:chExt cx="537480" cy="455040"/>
              </a:xfrm>
            </p:grpSpPr>
            <p:sp>
              <p:nvSpPr>
                <p:cNvPr id="430" name=""/>
                <p:cNvSpPr/>
                <p:nvPr/>
              </p:nvSpPr>
              <p:spPr>
                <a:xfrm>
                  <a:off x="555120" y="5857920"/>
                  <a:ext cx="354240" cy="45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l-GR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ζ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1" name=""/>
                <p:cNvSpPr/>
                <p:nvPr/>
              </p:nvSpPr>
              <p:spPr>
                <a:xfrm>
                  <a:off x="463320" y="5857920"/>
                  <a:ext cx="537480" cy="455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2" name=""/>
              <p:cNvGrpSpPr/>
              <p:nvPr/>
            </p:nvGrpSpPr>
            <p:grpSpPr>
              <a:xfrm>
                <a:off x="1001160" y="5857920"/>
                <a:ext cx="1009440" cy="455040"/>
                <a:chOff x="1001160" y="5857920"/>
                <a:chExt cx="1009440" cy="455040"/>
              </a:xfrm>
            </p:grpSpPr>
            <p:sp>
              <p:nvSpPr>
                <p:cNvPr id="433" name=""/>
                <p:cNvSpPr/>
                <p:nvPr/>
              </p:nvSpPr>
              <p:spPr>
                <a:xfrm>
                  <a:off x="1092960" y="5857920"/>
                  <a:ext cx="825480" cy="45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l-GR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1,006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4" name=""/>
                <p:cNvSpPr/>
                <p:nvPr/>
              </p:nvSpPr>
              <p:spPr>
                <a:xfrm>
                  <a:off x="1001160" y="5857920"/>
                  <a:ext cx="1009440" cy="455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5" name=""/>
              <p:cNvGrpSpPr/>
              <p:nvPr/>
            </p:nvGrpSpPr>
            <p:grpSpPr>
              <a:xfrm>
                <a:off x="2011320" y="5857920"/>
                <a:ext cx="1009440" cy="455040"/>
                <a:chOff x="2011320" y="5857920"/>
                <a:chExt cx="1009440" cy="455040"/>
              </a:xfrm>
            </p:grpSpPr>
            <p:sp>
              <p:nvSpPr>
                <p:cNvPr id="436" name=""/>
                <p:cNvSpPr/>
                <p:nvPr/>
              </p:nvSpPr>
              <p:spPr>
                <a:xfrm>
                  <a:off x="2103120" y="5857920"/>
                  <a:ext cx="825480" cy="45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l-GR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1,137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7" name=""/>
                <p:cNvSpPr/>
                <p:nvPr/>
              </p:nvSpPr>
              <p:spPr>
                <a:xfrm>
                  <a:off x="2011320" y="5857920"/>
                  <a:ext cx="1009440" cy="455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8" name=""/>
              <p:cNvGrpSpPr/>
              <p:nvPr/>
            </p:nvGrpSpPr>
            <p:grpSpPr>
              <a:xfrm>
                <a:off x="3021120" y="5857920"/>
                <a:ext cx="1009440" cy="455040"/>
                <a:chOff x="3021120" y="5857920"/>
                <a:chExt cx="1009440" cy="455040"/>
              </a:xfrm>
            </p:grpSpPr>
            <p:sp>
              <p:nvSpPr>
                <p:cNvPr id="439" name=""/>
                <p:cNvSpPr/>
                <p:nvPr/>
              </p:nvSpPr>
              <p:spPr>
                <a:xfrm>
                  <a:off x="3112560" y="5857920"/>
                  <a:ext cx="826200" cy="45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l-GR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0,99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0" name=""/>
                <p:cNvSpPr/>
                <p:nvPr/>
              </p:nvSpPr>
              <p:spPr>
                <a:xfrm>
                  <a:off x="3021120" y="5857920"/>
                  <a:ext cx="1009440" cy="455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41" name=""/>
            <p:cNvSpPr/>
            <p:nvPr/>
          </p:nvSpPr>
          <p:spPr>
            <a:xfrm>
              <a:off x="457200" y="3124080"/>
              <a:ext cx="3580920" cy="319248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2" name=""/>
          <p:cNvSpPr/>
          <p:nvPr/>
        </p:nvSpPr>
        <p:spPr>
          <a:xfrm>
            <a:off x="417204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3" name=""/>
          <p:cNvGraphicFramePr/>
          <p:nvPr/>
        </p:nvGraphicFramePr>
        <p:xfrm>
          <a:off x="6400800" y="2895480"/>
          <a:ext cx="1371600" cy="735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4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400800" y="2895480"/>
                    <a:ext cx="1371600" cy="73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5" name=""/>
          <p:cNvSpPr/>
          <p:nvPr/>
        </p:nvSpPr>
        <p:spPr>
          <a:xfrm>
            <a:off x="436248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6" name=""/>
          <p:cNvGraphicFramePr/>
          <p:nvPr/>
        </p:nvGraphicFramePr>
        <p:xfrm>
          <a:off x="6781680" y="3733920"/>
          <a:ext cx="762120" cy="711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4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781680" y="3733920"/>
                    <a:ext cx="762120" cy="71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8" name=""/>
          <p:cNvGraphicFramePr/>
          <p:nvPr/>
        </p:nvGraphicFramePr>
        <p:xfrm>
          <a:off x="6629400" y="4572000"/>
          <a:ext cx="1143000" cy="709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4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629400" y="4572000"/>
                    <a:ext cx="1143000" cy="70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0" name=""/>
          <p:cNvGraphicFramePr/>
          <p:nvPr/>
        </p:nvGraphicFramePr>
        <p:xfrm>
          <a:off x="6629400" y="5410080"/>
          <a:ext cx="1447920" cy="5558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51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629400" y="5410080"/>
                    <a:ext cx="1447920" cy="55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B9237-3B0B-409E-A50E-3618DA74503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7T11:14:52Z</dcterms:created>
  <dc:creator>WIN2K</dc:creator>
  <dc:description/>
  <dc:language>en-US</dc:language>
  <cp:lastModifiedBy>WinUser</cp:lastModifiedBy>
  <dcterms:modified xsi:type="dcterms:W3CDTF">2004-04-26T08:09:07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44050044</vt:r8>
  </property>
  <property fmtid="{D5CDD505-2E9C-101B-9397-08002B2CF9AE}" pid="3" name="_AuthorEmail">
    <vt:lpwstr>tzes@ee.upatras.gr</vt:lpwstr>
  </property>
  <property fmtid="{D5CDD505-2E9C-101B-9397-08002B2CF9AE}" pid="4" name="_AuthorEmailDisplayName">
    <vt:lpwstr>Tzes Anthony</vt:lpwstr>
  </property>
  <property fmtid="{D5CDD505-2E9C-101B-9397-08002B2CF9AE}" pid="5" name="_EmailSubject">
    <vt:lpwstr>Power_point_presentations_4_SAE2</vt:lpwstr>
  </property>
</Properties>
</file>