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3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.wmf" ContentType="image/x-wmf"/>
  <Override PartName="/ppt/media/image19.wmf" ContentType="image/x-wmf"/>
  <Override PartName="/ppt/media/image62.wmf" ContentType="image/x-wmf"/>
  <Override PartName="/ppt/media/image63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67.wmf" ContentType="image/x-wmf"/>
  <Override PartName="/ppt/media/image64.wmf" ContentType="image/x-wmf"/>
  <Override PartName="/ppt/media/image81.png" ContentType="image/png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57.png" ContentType="image/png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325-9B92-4219-925C-E2D51BFF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B35-035E-4479-9274-5C63365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6EC-0E37-4F9A-9D56-28DF1B9C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CB7-F1B9-47BD-8C21-E977661C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A8EA-37F0-43B7-81D1-7830739E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165E-1795-4472-9BF3-1BC8003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7385-46A8-4B0A-B652-486C789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9167-1D54-4AF8-87F8-DD752044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76FA-AD14-4AE2-9466-313DA654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B31C-FA79-4920-9D7A-23FE1C84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E2E-F850-455C-871F-1F2A38B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72E-D8EE-4C97-A970-3E9E739A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D3B6-76E8-43D3-B8FD-DCBC34F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523-2729-4AB5-90F3-9ABDEA4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141D-D172-478D-9495-281DC5D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150D-A58C-4968-9D2D-034EB3CF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288-BF70-4760-9BBF-6847B389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AC5-5E72-40A7-978A-ED9F6002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D12-B717-4449-8B4A-53D3C8D6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003-6326-456A-80AD-CF496FC3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216-5405-4A62-A472-F46498B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297-F6EC-4426-9B33-26DCA3C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1A3-A6EE-4DA8-A510-8ECB12FA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7BF-E10E-4B57-A43A-6B44102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A9E4-09CA-4FC5-9593-F5CCEA4B5A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47BC-D772-4CAC-9589-C400D156A1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png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7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6.wmf"/><Relationship Id="rId23" Type="http://schemas.openxmlformats.org/officeDocument/2006/relationships/image" Target="../media/image77.wmf"/><Relationship Id="rId2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image" Target="../media/image8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438280"/>
            <a:ext cx="695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Ύλη μαθή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-Lag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λεγκτ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ελεγκτές (9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εκτός διαγράμματ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quist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ol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3240" y="426708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κριτό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φιακό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τόματο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Έ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εγχο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27600" y="4724280"/>
            <a:ext cx="53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ΗΦΙΑΚΟΣ ΑΥΤΟΜΑΤΟΣ ΕΛΕΓΧΟ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28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5760" y="5334120"/>
            <a:ext cx="599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ργαστήρ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view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συλλογή και αποστολή δεδομένων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ruments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D02-C4D3-4B15-9C47-08C2B3E5D4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648320" cy="3485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360" y="21718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αυτό το κέρδος     έχουμ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71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724120" y="2133720"/>
          <a:ext cx="2332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2133720"/>
                    <a:ext cx="233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08124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809880" y="1987560"/>
          <a:ext cx="4038840" cy="88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987560"/>
                    <a:ext cx="4038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82600" y="2743200"/>
            <a:ext cx="459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ατηρώ ότι                 .     . Υπάρχει σημαντική ελάττωση του σφάλματος μόνιμη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τάστασης για τις ίδιες τιμές των κυρίαρχων πόλων. 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λεγκτής βελτιώνει κύρια τη μόνιμη απόκριση του συστήματος, ενώ χειροτερεύει ανεπαίσθητα τη μεταβατική (την κάνει ανεπαίσθητα πιο αργή λόγω μεταβολής της φυσικής συχνότητας    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57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76520" y="2666880"/>
          <a:ext cx="12952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2666880"/>
                    <a:ext cx="12952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666880" y="4648320"/>
          <a:ext cx="31752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648320"/>
                    <a:ext cx="317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65320" y="5029200"/>
            <a:ext cx="43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ι γίνεται σε περίπτωση όπου ο πόλος και 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δενικό το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ν τεθούν κοντά στο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φανταστικό άξονα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33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30440" y="5827680"/>
          <a:ext cx="1463760" cy="579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30440" y="5827680"/>
                    <a:ext cx="14637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783320" y="643896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Γ.Τ.Π αλλάζει αισθητ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6DC-FDD4-417B-9DF6-FE71D48BB1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209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λεγκτής προήγησης φάσης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0960" y="3062160"/>
            <a:ext cx="650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ησιμοποιείται κύρια για τη βελτίωση της μεταβατικής απόκρι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ρόπος υλοποίησης με παθητικά στοιχε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006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914400" y="2484360"/>
          <a:ext cx="17524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84360"/>
                    <a:ext cx="17524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2827440" cy="201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95440" y="5905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0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219320" y="5791320"/>
          <a:ext cx="144756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5791320"/>
                    <a:ext cx="1447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305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895480" y="5910120"/>
          <a:ext cx="881280" cy="3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5910120"/>
                    <a:ext cx="8812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5014080" y="377208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ιάγραμμα πόλων-μηδενικ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5105520" y="4191120"/>
            <a:ext cx="2844720" cy="231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DDC-3FDD-46A6-92C2-CD35709BB4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93880" y="2171880"/>
            <a:ext cx="812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ζητείται η ταχύτερη απόκριση του συστήματος        αύξηση του     (και διατήρη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υ ζ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               (ακύρωση του πόλου του συστήματος –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210440" y="2162160"/>
          <a:ext cx="3492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10440" y="2162160"/>
                    <a:ext cx="34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3387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442880" y="2590920"/>
          <a:ext cx="76680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2590920"/>
                    <a:ext cx="76680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762120" y="3124080"/>
            <a:ext cx="4098960" cy="3468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165280" y="316224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τοποθέτηση του πόλου στο 1/{αΤ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ρίζεται από τη συνθήκη της φά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003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48320" y="3886200"/>
          <a:ext cx="4495680" cy="39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886200"/>
                    <a:ext cx="4495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938840" y="41529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098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952880" y="4495680"/>
          <a:ext cx="4191120" cy="565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4495680"/>
                    <a:ext cx="41911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4938120" y="5143680"/>
            <a:ext cx="31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το επιθυμητό σημείο είναι 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ότε πρέπε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14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89760" y="5416560"/>
          <a:ext cx="1911240" cy="374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9760" y="5416560"/>
                    <a:ext cx="19112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44956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048520" y="5162400"/>
          <a:ext cx="257400" cy="30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048520" y="5162400"/>
                    <a:ext cx="257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EE7-4DC3-4CCC-91B3-ED9906542F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4000" y="24526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δεικτικά ο Γ.Τ.Ρ. 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(s)=k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98800" y="2209680"/>
            <a:ext cx="40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ώ ο Γ.Τ.Ρ. μετατοπίζεται αισθητά πρ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α αριστερά (ταχύτερη απόκριση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 γι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selida3" descr=""/>
          <p:cNvPicPr/>
          <p:nvPr/>
        </p:nvPicPr>
        <p:blipFill>
          <a:blip r:embed="rId1"/>
          <a:stretch/>
        </p:blipFill>
        <p:spPr>
          <a:xfrm>
            <a:off x="0" y="3086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selida3_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1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638680" y="2733840"/>
          <a:ext cx="130968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733840"/>
                    <a:ext cx="13096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E81-F2FD-4CE9-9CB4-3F0B2F0FB6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4480" y="2171880"/>
            <a:ext cx="378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δεν ακυρωθεί ακριβώς ο πόλος το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τήματος στο –1 (π.χ.                 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Γ.Τ.Π.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53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24080" y="2376360"/>
          <a:ext cx="99072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376360"/>
                    <a:ext cx="990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selida3_3" descr=""/>
          <p:cNvPicPr/>
          <p:nvPr/>
        </p:nvPicPr>
        <p:blipFill>
          <a:blip r:embed="rId3"/>
          <a:stretch/>
        </p:blipFill>
        <p:spPr>
          <a:xfrm>
            <a:off x="0" y="32004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876200" y="2147760"/>
            <a:ext cx="40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μεγέθυνση στην περιοχή ενδιαφέροντ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είχνει ότι ένας πόλος του κλειστού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στήματος «οδεύει» προς το μηδενικ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–1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5703840" y="3429000"/>
            <a:ext cx="242892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552-8AAE-48D2-9E9E-545A81DD06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209556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ιστάθμιση προήγησης φάσης (συνέχεια.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040" y="2558880"/>
            <a:ext cx="83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Χρησιμοποιείται για την ταχύτερη απόκριση του συστήματος, μετατοπίζοντας τον Γ.Τ.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ς τα αριστερ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9560" y="3351240"/>
            <a:ext cx="85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τί της ακύρωσης του πόλου του συστήματος στο –1, γιατί δεν ακυρώνω τον πόλο στο 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920" y="4875120"/>
            <a:ext cx="873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σύστημα θα γίνει από τύπου 1 τύπου 0 με άμεση συνέπεια στ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νεκα πιθανώς κατασκευαστικών προβλημάτων είναι δυνατόν το μηδενικό να μετατοπισθε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δεξί ημιεπίπεδο                 και να υπάρχουν προβλήματα ευστάθει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553080" y="4829040"/>
          <a:ext cx="3812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82904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38149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43000" y="3773520"/>
          <a:ext cx="228132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73520"/>
                    <a:ext cx="22813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2339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281320" y="5424480"/>
          <a:ext cx="102384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1320" y="5424480"/>
                    <a:ext cx="10238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C48-BB57-4E4F-B3B3-CA895E0605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9240" y="2171880"/>
            <a:ext cx="72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χεδιασμός αντισταθμιστή προήγησης φάσης με Γ.Τ.Ρ. (μέθοδος διχοτόμο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6960" y="2552760"/>
            <a:ext cx="57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είναι ένας επιθυμητός πόλος του κλειστού συστήματο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885960" y="2576520"/>
          <a:ext cx="25704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576520"/>
                    <a:ext cx="257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157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172200" y="2438280"/>
          <a:ext cx="11764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438280"/>
                    <a:ext cx="11764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519120" y="31622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528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41280" y="3022560"/>
          <a:ext cx="333072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1280" y="3022560"/>
                    <a:ext cx="3330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511200" y="365760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 τη συνθήκη της φάσης γι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σύστημα                 (δες Γ.Τ.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24040" y="3976560"/>
          <a:ext cx="990720" cy="3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4040" y="3976560"/>
                    <a:ext cx="99072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" descr=""/>
          <p:cNvPicPr/>
          <p:nvPr/>
        </p:nvPicPr>
        <p:blipFill>
          <a:blip r:embed="rId9"/>
          <a:stretch/>
        </p:blipFill>
        <p:spPr>
          <a:xfrm>
            <a:off x="4572000" y="3429000"/>
            <a:ext cx="4214880" cy="2933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95440" y="4457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έπε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09480" y="4876920"/>
          <a:ext cx="3048120" cy="39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4876920"/>
                    <a:ext cx="30481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43160" y="56008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193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838080" y="5559480"/>
          <a:ext cx="3124440" cy="38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5559480"/>
                    <a:ext cx="31244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44434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022480" y="5967360"/>
          <a:ext cx="415800" cy="324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22480" y="5967360"/>
                    <a:ext cx="4158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69F-EBA8-449D-9373-BEC1A91872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6840" y="2133720"/>
            <a:ext cx="87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μηδενικό και ο πόλος του ελεγκτή μπορούν να υπολογιστούν με βάση τον εξής αλγόριθμ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2590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ύρεση διχοτόμου       γων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ύρεση 2 ημιευθειών        και           έτσι ώστε                            κ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σημείο τομής της      με τον πραγματικό άξονα είναι ο πόλος        του ελεγκτ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 σημείο τομής της       με τον πραγματικό άξονα είναι το μηδενικό     του ελεγκτ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34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286000" y="2590920"/>
          <a:ext cx="43344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3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3480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352680" y="2590920"/>
          <a:ext cx="757440" cy="3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590920"/>
                    <a:ext cx="7574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14560" y="552456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δειξη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(άθροισμα γωνιών τριγώνο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434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590920" y="2844720"/>
          <a:ext cx="4572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2844720"/>
                    <a:ext cx="457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3352680" y="2833560"/>
          <a:ext cx="45720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2833560"/>
                    <a:ext cx="457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4138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523880" y="3124080"/>
          <a:ext cx="152424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3124080"/>
                    <a:ext cx="15242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3417840" y="3122640"/>
          <a:ext cx="154620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7840" y="3122640"/>
                    <a:ext cx="1546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486160" y="3395520"/>
          <a:ext cx="457200" cy="35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6160" y="3395520"/>
                    <a:ext cx="457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514600" y="4202280"/>
          <a:ext cx="457200" cy="35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4202280"/>
                    <a:ext cx="4572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4386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81280" y="3657600"/>
          <a:ext cx="609840" cy="36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81280" y="3657600"/>
                    <a:ext cx="609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1773360" y="4767120"/>
          <a:ext cx="56664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73360" y="4767120"/>
                    <a:ext cx="566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6529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295280" y="5486400"/>
          <a:ext cx="3048120" cy="42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295280" y="5486400"/>
                    <a:ext cx="30481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/>
          <p:cNvPicPr/>
          <p:nvPr/>
        </p:nvPicPr>
        <p:blipFill>
          <a:blip r:embed="rId23"/>
          <a:stretch/>
        </p:blipFill>
        <p:spPr>
          <a:xfrm>
            <a:off x="4572000" y="3508200"/>
            <a:ext cx="4325760" cy="289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1C0-82F2-4540-8411-ED74D805CE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765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057400"/>
          <a:ext cx="701028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70102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609480" y="2827440"/>
          <a:ext cx="8668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27440"/>
                    <a:ext cx="866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230976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selida10block1" descr="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2224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selida10" descr=""/>
          <p:cNvPicPr/>
          <p:nvPr/>
        </p:nvPicPr>
        <p:blipFill>
          <a:blip r:embed="rId6"/>
          <a:stretch/>
        </p:blipFill>
        <p:spPr>
          <a:xfrm>
            <a:off x="4648320" y="297180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147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28600" y="5791320"/>
          <a:ext cx="434340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791320"/>
                    <a:ext cx="43434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3480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952880" y="5491080"/>
          <a:ext cx="3429000" cy="121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5491080"/>
                    <a:ext cx="34290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1E9-11CA-403C-B6B2-F395D68577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selida1block1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57800" cy="1698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81560" y="3733920"/>
            <a:ext cx="342720" cy="571320"/>
          </a:xfrm>
          <a:prstGeom prst="downArrow">
            <a:avLst>
              <a:gd name="adj1" fmla="val 50000"/>
              <a:gd name="adj2" fmla="val 4167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86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elida1block2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6248160" cy="1825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399096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ΚΡΙΤΟΣ ΑΥΤΟΜΑΤΟΣ ΕΛΕΓΧΟ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B06-6C3C-4D74-BA53-6D8E6A8284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386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elida2block3" descr=""/>
          <p:cNvPicPr/>
          <p:nvPr/>
        </p:nvPicPr>
        <p:blipFill>
          <a:blip r:embed="rId1"/>
          <a:stretch/>
        </p:blipFill>
        <p:spPr>
          <a:xfrm>
            <a:off x="609480" y="2637000"/>
            <a:ext cx="1447920" cy="71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2362320" y="2743200"/>
          <a:ext cx="1676160" cy="50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743200"/>
                    <a:ext cx="16761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selida1block4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2514600" cy="1809720"/>
          </a:xfrm>
          <a:prstGeom prst="rect">
            <a:avLst/>
          </a:prstGeom>
          <a:ln w="0">
            <a:noFill/>
          </a:ln>
        </p:spPr>
      </p:pic>
      <p:pic>
        <p:nvPicPr>
          <p:cNvPr id="123" name="selida2block1" descr=""/>
          <p:cNvPicPr/>
          <p:nvPr/>
        </p:nvPicPr>
        <p:blipFill>
          <a:blip r:embed="rId5"/>
          <a:stretch/>
        </p:blipFill>
        <p:spPr>
          <a:xfrm>
            <a:off x="1371600" y="5334120"/>
            <a:ext cx="1523880" cy="365040"/>
          </a:xfrm>
          <a:prstGeom prst="rect">
            <a:avLst/>
          </a:prstGeom>
          <a:ln w="0">
            <a:noFill/>
          </a:ln>
        </p:spPr>
      </p:pic>
      <p:pic>
        <p:nvPicPr>
          <p:cNvPr id="124" name="selida2block2" descr=""/>
          <p:cNvPicPr/>
          <p:nvPr/>
        </p:nvPicPr>
        <p:blipFill>
          <a:blip r:embed="rId6"/>
          <a:stretch/>
        </p:blipFill>
        <p:spPr>
          <a:xfrm>
            <a:off x="5029200" y="1752480"/>
            <a:ext cx="3809880" cy="22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447920" y="5791320"/>
          <a:ext cx="1600200" cy="62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791320"/>
                    <a:ext cx="16002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selida2block33" descr=""/>
          <p:cNvPicPr/>
          <p:nvPr/>
        </p:nvPicPr>
        <p:blipFill>
          <a:blip r:embed="rId9"/>
          <a:stretch/>
        </p:blipFill>
        <p:spPr>
          <a:xfrm>
            <a:off x="5086440" y="4191120"/>
            <a:ext cx="3676680" cy="2217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0200" y="198108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δειγμα υλοποίησης ελεγκτή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το συνεχές πεδί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39D-7D5A-4EE5-B667-640EFB3B6F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elida2block24" descr=""/>
          <p:cNvPicPr/>
          <p:nvPr/>
        </p:nvPicPr>
        <p:blipFill>
          <a:blip r:embed="rId1"/>
          <a:stretch/>
        </p:blipFill>
        <p:spPr>
          <a:xfrm>
            <a:off x="957240" y="2971800"/>
            <a:ext cx="7238880" cy="2316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2362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ετρήσεις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όπου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#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t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με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2362320"/>
          <a:ext cx="30492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3623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276720" y="2371680"/>
          <a:ext cx="91440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2371680"/>
                    <a:ext cx="9144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89E-DCB6-43B8-82C6-4A43B29CD1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4191120" cy="3149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0248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4068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485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120" y="22478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στω Σύστημ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18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0" y="2162160"/>
          <a:ext cx="1981080" cy="6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162160"/>
                    <a:ext cx="19810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6520" y="274320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Να σχεδιαστεί ελεγκτή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600" y="3124080"/>
            <a:ext cx="56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) Έτσι ώστε οι κυρίαρχοι πόλοι να έχουν απόσβεση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ζ=0.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(s)=k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.Τ.Π.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800600" y="1981080"/>
            <a:ext cx="3755880" cy="1219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720" y="4111560"/>
            <a:ext cx="459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Έχω δύο κυρίαρχους πόλους που υπολογίζοντ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πό την τομή του Γ.Τ.Π. με μια ευθεία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ωνί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10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86400" y="4800600"/>
          <a:ext cx="251460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800600"/>
                    <a:ext cx="2514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708440" y="5500800"/>
            <a:ext cx="30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υτό επιτυγχάνεται για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=4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748-2CF7-40FE-A2D2-B432D05DF5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selida7block1" descr=""/>
          <p:cNvPicPr/>
          <p:nvPr/>
        </p:nvPicPr>
        <p:blipFill>
          <a:blip r:embed="rId1"/>
          <a:stretch/>
        </p:blipFill>
        <p:spPr>
          <a:xfrm>
            <a:off x="4191120" y="323856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0248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4068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485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18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10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9000" y="23004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(t)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7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7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00400" y="2286000"/>
          <a:ext cx="76212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286000"/>
                    <a:ext cx="762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34840" y="2895480"/>
            <a:ext cx="14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(t)=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48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00400" y="2666880"/>
          <a:ext cx="4038480" cy="93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266688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438280" y="25146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57360" y="3048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840" y="3429000"/>
            <a:ext cx="434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να μειωθεί τ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 πρέπει να αυξηθεί το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ν                 τότε ο Γ.Τ.Π. είν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76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057400" y="3352680"/>
          <a:ext cx="38088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352680"/>
                    <a:ext cx="380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04920" y="472428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το κλειστό σύστημα είναι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σταθέ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1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917880"/>
          <a:ext cx="838080" cy="563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3917880"/>
                    <a:ext cx="8380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8AD-BE3C-44CE-90DA-941A5E0FBC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960" y="213372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λεγκτής καθυστέρησης φάση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716360" cy="1800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3962520"/>
            <a:ext cx="46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ρόπος υλοποίησης με παθητικά στοιχεία (Α=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11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elida7block3" descr=""/>
          <p:cNvPicPr/>
          <p:nvPr/>
        </p:nvPicPr>
        <p:blipFill>
          <a:blip r:embed="rId2"/>
          <a:stretch/>
        </p:blipFill>
        <p:spPr>
          <a:xfrm>
            <a:off x="4876920" y="3994200"/>
            <a:ext cx="3352680" cy="2359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04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4648320"/>
          <a:ext cx="1523880" cy="69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648320"/>
                    <a:ext cx="152388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3005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95280" y="5334120"/>
          <a:ext cx="99072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334120"/>
                    <a:ext cx="99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2C6-24AD-40BC-80DB-B96457F090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96" name="selida6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811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004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005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981080"/>
            <a:ext cx="83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Για να αλλάξει ριζικά ο Γ.Τ.Ρ. Θέτω τον πόλο και το μηδενικό όσο γίνεται πιο κοντά σ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φανταστικό άξον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μόνος περιορισμός είναι λόγω κατασκευαστικών δυσκολιώ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481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47720" y="2819520"/>
          <a:ext cx="1919520" cy="6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2819520"/>
                    <a:ext cx="19195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70320" y="291924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.χ. Α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051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476360" y="3352680"/>
          <a:ext cx="111456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3352680"/>
                    <a:ext cx="11145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224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3352680"/>
          <a:ext cx="1066680" cy="33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352680"/>
                    <a:ext cx="106668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2433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743200" y="3359160"/>
          <a:ext cx="1066680" cy="32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3359160"/>
                    <a:ext cx="10666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837000" y="41911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Ο νέος Γ.Τ.Ρ.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46864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8160" y="4267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AFC-88EF-47E7-8716-3F62F88A36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78800" y="9223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ΣΤΗΜΑΤΑ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ΤΟΜΑΤ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ΕΓΧΟΥ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Ι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40" y="64152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η ΕΒΔΟΜΑΔΑ ΔΙΑΛΕΞΕΩ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5960" y="6477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1280" y="2171880"/>
            <a:ext cx="76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Όπου για τον ίδιο συντελεστή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ζ=0.4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και συνάρτηση μεταφοράς ανοιχτού βρόχο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1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66680" y="2514600"/>
          <a:ext cx="228600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14600"/>
                    <a:ext cx="2286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53182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4600" y="405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Η τιμή του    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71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477120" y="3962520"/>
          <a:ext cx="27468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3962520"/>
                    <a:ext cx="274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195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029200" y="4762440"/>
          <a:ext cx="373392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4762440"/>
                    <a:ext cx="373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07F-E5D3-4B98-A7C2-21FDCC2393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0:43:43Z</dcterms:created>
  <dc:creator>WIN2K</dc:creator>
  <dc:description/>
  <dc:language>en-US</dc:language>
  <cp:lastModifiedBy>WinUser</cp:lastModifiedBy>
  <dcterms:modified xsi:type="dcterms:W3CDTF">2004-04-26T07:55:23Z</dcterms:modified>
  <cp:revision>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7896344</vt:r8>
  </property>
  <property fmtid="{D5CDD505-2E9C-101B-9397-08002B2CF9AE}" pid="3" name="_AuthorEmail">
    <vt:lpwstr>tzes@ee.upatras.gr</vt:lpwstr>
  </property>
  <property fmtid="{D5CDD505-2E9C-101B-9397-08002B2CF9AE}" pid="4" name="_AuthorEmailDisplayName">
    <vt:lpwstr>Tzes Anthony</vt:lpwstr>
  </property>
  <property fmtid="{D5CDD505-2E9C-101B-9397-08002B2CF9AE}" pid="5" name="_EmailSubject">
    <vt:lpwstr>Power_point_presentations_4_SAE2</vt:lpwstr>
  </property>
</Properties>
</file>