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5499-5977-49D2-BD09-C11CC7E1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450A-3AF6-4457-822B-C5E3C9E8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D9DC-9D17-49B7-94DF-91A2D57B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D236-2E0C-4133-9CCC-AF69F8DE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C4EA-7F26-4686-BA17-2A455E93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A81A-45BA-46C8-A11C-BFB400D8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F7E2-7B04-4CCF-956D-B47EDF6B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B30E-D433-4295-8509-CAD0B0CE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748F-38F5-4294-844B-D59A5BCA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82C0-3B2B-49B0-B802-5ED8677F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0264-325A-40C4-9A78-26DD099B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4BEC-5B31-4CB3-A9F0-E62CB943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5CC4-F55F-4564-A702-A103664C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CD46-29A8-49AA-9689-75590A6B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F119-D351-4BEC-8B4E-AB3CF2E4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2B7F-53E2-424E-92FD-A23393B2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9B08-0D6E-4F90-8275-582AC826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8DC2-99BA-4041-9E4D-8E9A812E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4FCE-25FF-46E5-B08F-D5FBC7DE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8059-F26D-4B67-AE1E-E3B21BF7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29D2-141F-4BB8-8B40-72ACBD3E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E2D3-B1D7-46A2-BC7A-3B416678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7AB3-3393-4BBB-80F3-E0C23E24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399A-A5CB-4B6E-AFE9-1C843C03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B395-E36A-429F-A756-F6879D628A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F1C1-7EB4-43D0-B0CE-D092F1106E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1.wm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6600" y="1752480"/>
            <a:ext cx="28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AD-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ΑΝΤΙΣΤΑΘΜΙΤΗ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Φιλοσοφία Σχεδίασης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40600" y="266688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τιστάθμιση κέρδου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429000"/>
            <a:ext cx="347328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733920" y="2362320"/>
            <a:ext cx="5029200" cy="435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0167-925F-434D-8A9C-25CFE61385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selida18_3" descr=""/>
          <p:cNvPicPr/>
          <p:nvPr/>
        </p:nvPicPr>
        <p:blipFill>
          <a:blip r:embed="rId1"/>
          <a:stretch/>
        </p:blipFill>
        <p:spPr>
          <a:xfrm>
            <a:off x="838080" y="1866960"/>
            <a:ext cx="7162920" cy="3162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1680" y="5105520"/>
            <a:ext cx="1059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θώς το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υξάνεται μικραίνει ο χρόνος απόκριση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ι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ξαρτώνται από το εύρος λειτουργίας του συστήματος το οποίο εξαρτάται απ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ενδεχόμενη μείωση του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δηγεί σε μείωση του συντελεστή απόσβεσης κα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ύξηση υπερυψώσεων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100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14200" y="5362560"/>
          <a:ext cx="216000" cy="38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200" y="5362560"/>
                    <a:ext cx="216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766800" y="5372280"/>
          <a:ext cx="366840" cy="40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6800" y="5372280"/>
                    <a:ext cx="36684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44337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542440" y="5391000"/>
          <a:ext cx="463320" cy="366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42440" y="5391000"/>
                    <a:ext cx="46332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A6AF-41D0-43C1-BE92-54FD898314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19320" y="1459080"/>
            <a:ext cx="6781680" cy="494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3862-1BB8-4329-8796-EE5B8F83C4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1840" y="2095560"/>
            <a:ext cx="72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ε την κατάλληλη επιλογή του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ad-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τισταθμιστή μπορούμε να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) Διατηρήσουμε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 παράλληλα να αυξήσουμε το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553080" y="2400480"/>
          <a:ext cx="45720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2400480"/>
                    <a:ext cx="45720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295280" y="2808360"/>
            <a:ext cx="6553440" cy="2678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6760" y="5676840"/>
            <a:ext cx="58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δηγούμαστε σε ταχύτερη απόκριση με σταθερή υπερύψωσ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D7B7-DF67-4173-882E-522DA8B6E8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0760" y="2095560"/>
            <a:ext cx="545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Β) Διατηρή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υμε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 αυξήσουμε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048120" y="2114640"/>
          <a:ext cx="45720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114640"/>
                    <a:ext cx="45720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898560" y="5676840"/>
            <a:ext cx="49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δηγούμαστε σε απόκριση με μείωση υπερύψωση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295280" y="2743200"/>
            <a:ext cx="6324840" cy="29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3BF5-864A-47D8-91FD-E0F0C869D6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600200" y="2895480"/>
          <a:ext cx="53352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895480"/>
                    <a:ext cx="5335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252360" y="1981080"/>
            <a:ext cx="889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ντισταθμιστής προσθέτει θετική φάση γύρω από την περιοχή συχνοτήτων του μηδενικού-πόλου το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+Για την αύξηση το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M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  πόλος και το μηδενικό του ελεγκτή τοποθετούντα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οντά στη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υπικά για έν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-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λεγκτή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581280" y="3124080"/>
          <a:ext cx="784440" cy="66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124080"/>
                    <a:ext cx="78444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09480" y="3753000"/>
          <a:ext cx="1447920" cy="59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753000"/>
                    <a:ext cx="144792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2346480" y="384804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νώ το μηδενικ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356000" y="3886200"/>
          <a:ext cx="825480" cy="30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56000" y="3886200"/>
                    <a:ext cx="8254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8465-C9BA-44D9-B275-7E4AB3BA0C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1640" y="2057400"/>
            <a:ext cx="74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όση είναι η μέγιστη γωνία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ου μπορεί να προσθέσει ένα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ad-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λεγκτή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726000" y="2058840"/>
          <a:ext cx="46512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6000" y="2058840"/>
                    <a:ext cx="4651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737280" y="247644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                           Τότ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179880" y="2438280"/>
          <a:ext cx="116352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9880" y="2438280"/>
                    <a:ext cx="116352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200240" y="2405160"/>
          <a:ext cx="1371600" cy="5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00240" y="2405160"/>
                    <a:ext cx="13716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4862160" y="2476440"/>
            <a:ext cx="392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θώς το μηδενικό κινείται πλησίον το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όλου             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630840" y="2681280"/>
          <a:ext cx="1036800" cy="39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30840" y="2681280"/>
                    <a:ext cx="10368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5586480" y="2786040"/>
          <a:ext cx="677880" cy="293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86480" y="2786040"/>
                    <a:ext cx="67788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4861440" y="316224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νήθως για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02560" y="3090960"/>
          <a:ext cx="1057320" cy="399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02560" y="3090960"/>
                    <a:ext cx="10573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" descr=""/>
          <p:cNvPicPr/>
          <p:nvPr/>
        </p:nvPicPr>
        <p:blipFill>
          <a:blip r:embed="rId13"/>
          <a:stretch/>
        </p:blipFill>
        <p:spPr>
          <a:xfrm>
            <a:off x="228600" y="3732120"/>
            <a:ext cx="4114800" cy="2511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4"/>
          <a:stretch/>
        </p:blipFill>
        <p:spPr>
          <a:xfrm>
            <a:off x="4497480" y="3733920"/>
            <a:ext cx="4646520" cy="25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470A-F60C-461A-BC60-37DFEB6E86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535960" y="647712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1600" y="2101680"/>
            <a:ext cx="84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απομάκρυνση του μηδενικού από τον πόλο                                     μπορεί να επηρεάσε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ημαντικά το διάγραμμα μέτρου στις χαμηλές συχνότητε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933800" y="2100240"/>
          <a:ext cx="2076480" cy="38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3800" y="2100240"/>
                    <a:ext cx="20764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143000" y="2666880"/>
            <a:ext cx="6858000" cy="364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6925-B063-40A6-A0D3-336AD09CF9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7T11:01:22Z</dcterms:created>
  <dc:creator>WIN2K</dc:creator>
  <dc:description/>
  <dc:language>en-US</dc:language>
  <cp:lastModifiedBy>WinUser</cp:lastModifiedBy>
  <dcterms:modified xsi:type="dcterms:W3CDTF">2004-04-26T08:01:2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26923166</vt:r8>
  </property>
  <property fmtid="{D5CDD505-2E9C-101B-9397-08002B2CF9AE}" pid="3" name="_AuthorEmail">
    <vt:lpwstr>tzes@ee.upatras.gr</vt:lpwstr>
  </property>
  <property fmtid="{D5CDD505-2E9C-101B-9397-08002B2CF9AE}" pid="4" name="_AuthorEmailDisplayName">
    <vt:lpwstr>Tzes Anthony</vt:lpwstr>
  </property>
  <property fmtid="{D5CDD505-2E9C-101B-9397-08002B2CF9AE}" pid="5" name="_EmailSubject">
    <vt:lpwstr>Power_point_presentations_4_SAE2</vt:lpwstr>
  </property>
</Properties>
</file>