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46.wmf" ContentType="image/x-wmf"/>
  <Override PartName="/ppt/media/image11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E850-4726-41B9-8393-457A34E41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1F1E-8647-4EF0-9A7B-179CE817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40CD-490A-490A-A7CF-682A81108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7B8E-9123-4D26-B3AE-5F188CFDA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034B-6A58-441F-A200-81A113317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69AE-9E75-46CB-8655-8E661D8F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DAEC-A20B-4DC3-BFB4-5FEFBC4F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1B36-50E8-4E41-A9DD-D28FDFC5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5ED9-0582-49D1-B93F-D0A899C3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FCAD-1F8B-4043-AFED-B4A59266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A1FB-2955-4460-AA36-79885CB1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218E-3C90-46D9-B0B1-7C975D4C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BD1B-CC05-4149-8C89-3E20AB98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F69F-BACB-4618-9034-BDD4BB2F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6A43-5B91-4D7B-8C6D-A9446948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B51D6-40C7-42E6-8276-604B3A8E7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2FA9-BF47-49A9-B04D-584481BCE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A168-9193-4F2F-88B6-5C7C54C9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107F-7736-453F-B996-B7151CF6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3A38-F7E5-4641-934D-39A679EE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49C9-ED04-489E-8B3A-B9697CDB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85FA-71EF-4F8E-90D8-9DD11804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46C1-2266-44CB-B947-211DC77B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054A-ECEF-4BC2-A77F-09F6FBAC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2D69-700A-4F18-AACA-4963EC711F84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024C-97EF-44EC-A0B6-2D6407A339FF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3.wmf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5.wmf"/><Relationship Id="rId8" Type="http://schemas.openxmlformats.org/officeDocument/2006/relationships/image" Target="../media/image46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61200" y="1905120"/>
            <a:ext cx="362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I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Αντισταθμιστή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ortional Integral Derivat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809720" y="2743200"/>
            <a:ext cx="5505480" cy="2557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"/>
          <p:cNvGraphicFramePr/>
          <p:nvPr/>
        </p:nvGraphicFramePr>
        <p:xfrm>
          <a:off x="3429000" y="5334120"/>
          <a:ext cx="1981080" cy="55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5334120"/>
                    <a:ext cx="198108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1127880" y="60199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υντονισμός (3) παραμέτρ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C5B2-A878-4C86-96B6-1DF08F7C5FC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42640" y="1981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υπικός Γ.Τ.Ρ. για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-m=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080" y="5715000"/>
            <a:ext cx="35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ια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-m=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υπάρχουν 3 ασύμπτωτο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114800" y="5715000"/>
          <a:ext cx="1442880" cy="3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5715000"/>
                    <a:ext cx="144288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432432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4724280" y="6234120"/>
          <a:ext cx="762120" cy="3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6234120"/>
                    <a:ext cx="7621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5395680" y="626256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5791320" y="6095880"/>
          <a:ext cx="914400" cy="6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6095880"/>
                    <a:ext cx="9144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2" name="" descr=""/>
          <p:cNvPicPr/>
          <p:nvPr/>
        </p:nvPicPr>
        <p:blipFill>
          <a:blip r:embed="rId7"/>
          <a:stretch/>
        </p:blipFill>
        <p:spPr>
          <a:xfrm>
            <a:off x="1371600" y="1752480"/>
            <a:ext cx="6324480" cy="4356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4B61-39B9-41B1-BE8C-01A863E291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02680" y="1981080"/>
            <a:ext cx="69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Συντονιμό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, PI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και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D –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ελεγκτών με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Z-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έθοδ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01080" y="2525760"/>
            <a:ext cx="777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0575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523880" y="2495520"/>
          <a:ext cx="2210040" cy="5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495520"/>
                    <a:ext cx="221004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40194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519200" y="3166920"/>
          <a:ext cx="2533680" cy="58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19200" y="3166920"/>
                    <a:ext cx="25336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4309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066680" y="3733920"/>
          <a:ext cx="1176480" cy="87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3733920"/>
                    <a:ext cx="117648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2516040" y="388620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υνήθως παίρν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09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4800600" y="3733920"/>
          <a:ext cx="1100160" cy="820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3733920"/>
                    <a:ext cx="1100160" cy="82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"/>
          <p:cNvSpPr/>
          <p:nvPr/>
        </p:nvSpPr>
        <p:spPr>
          <a:xfrm>
            <a:off x="40575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1981080" y="4648320"/>
          <a:ext cx="2210040" cy="552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81080" y="4648320"/>
                    <a:ext cx="221004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2133720" y="5105520"/>
          <a:ext cx="1066680" cy="825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33720" y="5105520"/>
                    <a:ext cx="106668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43052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2133720" y="5715000"/>
          <a:ext cx="1143000" cy="836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33720" y="5715000"/>
                    <a:ext cx="11430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FDF3-2D4D-4465-BEBE-E44731FE15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191960" y="1828800"/>
            <a:ext cx="43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ΠΕΙΡΑΜΑΤΙΚΗ ΔΙΑΔΙΚΑΣΙ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98920" y="2324160"/>
            <a:ext cx="484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ναγνώριση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(s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έσω ημιτονοειδών διεγέρσ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633680" y="2666880"/>
            <a:ext cx="5867280" cy="16621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894600" y="4381560"/>
            <a:ext cx="438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Υπολογισμός             από Γ.Τ.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πιβεβαίωση             από βηματική διέγερσ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2343240" y="4390920"/>
          <a:ext cx="761760" cy="39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3240" y="4390920"/>
                    <a:ext cx="76176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4632480" y="6058080"/>
            <a:ext cx="39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Υπολογισμός      από κρίσιμη απόσβεσ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2324160" y="4653000"/>
          <a:ext cx="762120" cy="39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24160" y="4653000"/>
                    <a:ext cx="7621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6019920" y="6048360"/>
          <a:ext cx="317520" cy="380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9920" y="6048360"/>
                    <a:ext cx="3175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9" name="" descr=""/>
          <p:cNvPicPr/>
          <p:nvPr/>
        </p:nvPicPr>
        <p:blipFill>
          <a:blip r:embed="rId8"/>
          <a:stretch/>
        </p:blipFill>
        <p:spPr>
          <a:xfrm>
            <a:off x="457200" y="4952880"/>
            <a:ext cx="4114800" cy="130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0943-90A4-49D9-8F6F-F85AD6134D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29320" y="217188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Υλοποίηση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-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όρο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194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66680" y="2590920"/>
          <a:ext cx="144324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590920"/>
                    <a:ext cx="144324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2881080" y="27050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Όπο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657600" y="2666880"/>
          <a:ext cx="1117440" cy="43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2666880"/>
                    <a:ext cx="111744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292896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selida22block1" descr=""/>
          <p:cNvPicPr/>
          <p:nvPr/>
        </p:nvPicPr>
        <p:blipFill>
          <a:blip r:embed="rId5"/>
          <a:stretch/>
        </p:blipFill>
        <p:spPr>
          <a:xfrm>
            <a:off x="2562120" y="3052800"/>
            <a:ext cx="4038840" cy="25876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73920" y="582948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#ΜΗΔΕΝΙΚΩΝ=#ΠΟΛΩΝ!!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0967-4B93-4F9F-95BE-92F5C384AF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37600" y="191916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Διάγραμμα μέτρου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-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όρο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9320" y="3429000"/>
            <a:ext cx="406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ε περίπτωση εισαγωγής «θορύβου»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«υψηλές συχνότητες», 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-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όρος ενισχύε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ην επίδρασή το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191120" y="1814400"/>
            <a:ext cx="4647960" cy="3029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33520" y="4572000"/>
            <a:ext cx="3276360" cy="1619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480560" y="495288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.χ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528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181480" y="4991040"/>
          <a:ext cx="1524240" cy="33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4991040"/>
                    <a:ext cx="152424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373392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181480" y="5372280"/>
          <a:ext cx="2286000" cy="46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5372280"/>
                    <a:ext cx="2286000" cy="46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4481640" y="579132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Όπου γι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574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522760" y="5781600"/>
          <a:ext cx="1668600" cy="35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22760" y="5781600"/>
                    <a:ext cx="16686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7300800" y="577692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α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7848720" y="5800680"/>
          <a:ext cx="679320" cy="330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848720" y="5800680"/>
                    <a:ext cx="6793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4191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572000" y="6248520"/>
          <a:ext cx="1371600" cy="393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6248520"/>
                    <a:ext cx="137160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5883840" y="6218280"/>
            <a:ext cx="6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!!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DFD8-29DC-4A19-AF63-BB0E87210F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29320" y="2171880"/>
            <a:ext cx="195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Υλοποίηση Ι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όρο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94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2896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1280" y="2057400"/>
            <a:ext cx="390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Υπάρχει πρόβλημα με την ολοκλήρωση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θορύβου με μη μηδενικό μέσο όρ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3800" y="5835600"/>
            <a:ext cx="418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ια την αποφυγή της ολοκλήρωσης γίνετα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etting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ε τακτά χρονικά διαστήματα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633920" y="2666880"/>
            <a:ext cx="2986200" cy="10144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33520" y="2743200"/>
            <a:ext cx="3200400" cy="2548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100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295280" y="5562720"/>
          <a:ext cx="1295640" cy="53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5562720"/>
                    <a:ext cx="129564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4572000" y="3809880"/>
            <a:ext cx="3886200" cy="1889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9132-BFB3-467F-A61D-8B73259611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03480" y="1828800"/>
            <a:ext cx="31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Συντονισμός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ID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παραμέτρ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5505480" cy="21333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2385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09480" y="4267080"/>
          <a:ext cx="4114800" cy="66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4267080"/>
                    <a:ext cx="411480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608040" y="4876920"/>
            <a:ext cx="356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έθοδο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iegler-Nich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υξήστε το       ώστε το σύστημα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να οδηγηθεί σε οριακή αστάθει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720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898560" y="5207040"/>
          <a:ext cx="1143000" cy="312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98560" y="5207040"/>
                    <a:ext cx="114300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44578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027160" y="5424480"/>
          <a:ext cx="381240" cy="380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27160" y="5424480"/>
                    <a:ext cx="3812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4802400" y="595800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486400" y="5334120"/>
          <a:ext cx="2057400" cy="1398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486400" y="5334120"/>
                    <a:ext cx="2057400" cy="13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4961880" y="4648320"/>
            <a:ext cx="32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(s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ίναι τουλάχιστον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l-GR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ης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τάξης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952880" y="5105520"/>
          <a:ext cx="914400" cy="279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952880" y="5105520"/>
                    <a:ext cx="9144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6156000" y="5067360"/>
            <a:ext cx="27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#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όλων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#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ηδενικών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199D-07F0-4F81-8CB7-4C373D4D4F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95920" y="2019240"/>
            <a:ext cx="640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υπική απόκριση συστήματος                  με μεταβαλλόμενο κέρδο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114800" y="2062080"/>
          <a:ext cx="91440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2062080"/>
                    <a:ext cx="9144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1270800" y="5829480"/>
            <a:ext cx="47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ια                   υπάρχουν φθίνουσες ταλαντώσει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776240" y="5791320"/>
          <a:ext cx="99072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6240" y="5791320"/>
                    <a:ext cx="99072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1371600" y="2514600"/>
            <a:ext cx="6400800" cy="282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0C12-55D1-453C-9291-C544DFC296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67560" y="1943280"/>
            <a:ext cx="73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ια                   υπάρχουν μη αποσβενούμενες ταλαντώσεις σταθερού πλάτου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776240" y="1905120"/>
          <a:ext cx="99072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6240" y="1905120"/>
                    <a:ext cx="99072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2133720" y="2286000"/>
            <a:ext cx="5362560" cy="4029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AE88-4387-48A6-9D48-2EA99D3203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67920" y="194328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ια                   υπάρχουν ταλαντώσεις με αυξανόμενο πλάτο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776240" y="1905120"/>
          <a:ext cx="99072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6240" y="1905120"/>
                    <a:ext cx="99072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1143000" y="2362320"/>
            <a:ext cx="6858000" cy="4029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06F5-C167-4421-83F6-61EA76745E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523880" y="2266920"/>
          <a:ext cx="91440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266920"/>
                    <a:ext cx="9144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952200" y="1949400"/>
            <a:ext cx="723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παραίτητη προϋπόθεση για το συντονισμό παραμέτρων με την μέθοδ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-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ίνα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88480" y="2629080"/>
            <a:ext cx="321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ν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-m=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.χ.                          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ο Γ.Τ.Ρ παραμένει σ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576520" y="2540160"/>
          <a:ext cx="1219320" cy="63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76520" y="2540160"/>
                    <a:ext cx="121932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457200" y="3581280"/>
            <a:ext cx="3809880" cy="26053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569840" y="2585880"/>
            <a:ext cx="448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ν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-m=2,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υπάρχουν 2 ασύμπτωτοι του Γ.Τ.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αι παραμένουν πάλι σ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.H.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648320" y="2895480"/>
          <a:ext cx="990360" cy="382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48320" y="2895480"/>
                    <a:ext cx="99036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5" name="" descr=""/>
          <p:cNvPicPr/>
          <p:nvPr/>
        </p:nvPicPr>
        <p:blipFill>
          <a:blip r:embed="rId8"/>
          <a:stretch/>
        </p:blipFill>
        <p:spPr>
          <a:xfrm>
            <a:off x="4876920" y="3429000"/>
            <a:ext cx="3879720" cy="3270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ECE0-3D54-4A3A-B020-975B3B2611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7T11:06:14Z</dcterms:created>
  <dc:creator>WIN2K</dc:creator>
  <dc:description/>
  <dc:language>en-US</dc:language>
  <cp:lastModifiedBy>WinUser</cp:lastModifiedBy>
  <dcterms:modified xsi:type="dcterms:W3CDTF">2004-04-26T08:03:3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65196409</vt:r8>
  </property>
  <property fmtid="{D5CDD505-2E9C-101B-9397-08002B2CF9AE}" pid="3" name="_AuthorEmail">
    <vt:lpwstr>tzes@ee.upatras.gr</vt:lpwstr>
  </property>
  <property fmtid="{D5CDD505-2E9C-101B-9397-08002B2CF9AE}" pid="4" name="_AuthorEmailDisplayName">
    <vt:lpwstr>Tzes Anthony</vt:lpwstr>
  </property>
  <property fmtid="{D5CDD505-2E9C-101B-9397-08002B2CF9AE}" pid="5" name="_EmailSubject">
    <vt:lpwstr>Power_point_presentations_4_SAE2</vt:lpwstr>
  </property>
</Properties>
</file>