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FCB-ED60-4B92-B2E5-EF0937CB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E73-24AD-4C44-A617-FA71747A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0D4-4E2E-463D-9E18-EA9F44A9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A35-29A2-4A1F-B078-7B3C9313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B8C0-1AF1-43D0-9A77-2F5869C6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DBB3-25BD-4F8F-BFDC-D4E16642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29F7-F81B-4586-9873-DF4638CA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F702-ABEF-4532-991A-216205B6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C009-A7C9-47F7-B5DC-054616D5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1FF1-2B85-403C-8E3E-8658AC47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5469-259F-4C31-97B0-2A37BA28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5D5-02EC-4E12-A672-334C29CC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1BD3-E0C1-44C8-97E7-F7A0C049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D0F9-4C75-4A92-AE02-BB4ACD40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3265-9F07-4ABF-85A4-DAE29F7D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24D6-0B73-494B-8FFD-F51CD553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7738-EC51-43F9-9227-55E43AE3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722-0C84-48C9-85E8-EC354187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BC4-9482-4895-AE3F-8C3EF47A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381-F40D-4768-813F-75950C91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E02-B9B8-45B8-A40A-5F4D7322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748-64C6-4C72-AE26-B062EB37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788-A1B0-4C94-B1D3-129FF5FF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9DB-600D-4C71-9F4B-BC0576DA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ED23-8995-441A-8729-601E039F4B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F77C-C082-444A-B3F7-F88E06D1B2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3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1440" y="20574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χεδιασμός ελεγκτή στο πεδίο συχνότητ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0040" y="255276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ιστάθμιση Κέρδ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409920" cy="1500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24280" y="2451240"/>
            <a:ext cx="4260960" cy="425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BE4-CD9F-489E-BC78-223A5125B5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3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7840" y="190512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ην αντιστορφή του προσήμου χρησιμοποιώ το ακόλουθο κύκλωμ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935440" y="2165400"/>
            <a:ext cx="3236760" cy="2101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5880" y="4343400"/>
            <a:ext cx="70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εύρος των τιμών εξαρτάται από τις τάσεις τροφοδοσίας του τελεστικο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004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43800" y="4351320"/>
          <a:ext cx="1371600" cy="37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4351320"/>
                    <a:ext cx="1371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272120" y="4724280"/>
            <a:ext cx="1214280" cy="200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7E0-F8F1-4EA3-A205-3584523AFD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33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004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5480" y="2590920"/>
            <a:ext cx="7491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έραν της τάσης τροφοδοσίας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ημαντική παράμετρος είναι το μέγιστο ρεύμα εξόδου (π.χ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741 – 20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την «αγορά» μπορούν να βρεθούν γραμμικοί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witching) op-amp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ε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V,                 A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.χ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apex.com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μεγαλύτερη ισχύ &gt;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υνήθως χρησιμοποιούντα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switching” amplifier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.χ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gal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528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876920" y="2570040"/>
          <a:ext cx="53316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70040"/>
                    <a:ext cx="533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2624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705120" y="4067280"/>
          <a:ext cx="13716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5120" y="4067280"/>
                    <a:ext cx="1371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3099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410080" y="4038480"/>
          <a:ext cx="1176480" cy="5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4038480"/>
                    <a:ext cx="1176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5FC-5F67-4BDA-B3D4-231A8A848C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3099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312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αρακτηριστική απόκριση ενισχυτή κέρδ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62520" y="3402000"/>
            <a:ext cx="4343400" cy="333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DBB-9FB2-406B-A820-F83D283D6E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233960" y="33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02480" y="91440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40680" y="64072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548560" y="646920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74600" y="6094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0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14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2600" y="2095560"/>
            <a:ext cx="60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αρακτηριστική ενισχυτή κέρδους, δεδομένου του περιορισμο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931080" y="2098800"/>
          <a:ext cx="12240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2098800"/>
                    <a:ext cx="12240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selida17_3" descr=""/>
          <p:cNvPicPr/>
          <p:nvPr/>
        </p:nvPicPr>
        <p:blipFill>
          <a:blip r:embed="rId3"/>
          <a:stretch/>
        </p:blipFill>
        <p:spPr>
          <a:xfrm>
            <a:off x="0" y="251460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14800" y="2438280"/>
            <a:ext cx="4511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υπική συχνότητα λειτουργία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ια η μέγιστη συχνότητα που περνάει από αυτούς τους ενισχυτέ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υχνότητες μέχρι  …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υπικά αυτοί οι ενισχυτές φτάνουν μέχρι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στην πράξη μέχρι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Για ασφάλεια φτάνω μέ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ι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υπικό θερμοκρασιακό όριο λειτουργί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ιές είναι οι θερμοκρασίες λειτουργίας αυτών τω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εωρητικά μέχρι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Όριο ασφαλείας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άτω όριο: Θεωρητικά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Όριο ασφαλείας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α χαμηλότερες θερμοκρασίες βάζω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FETs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FET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01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7162920" y="2438280"/>
          <a:ext cx="1371600" cy="33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2438280"/>
                    <a:ext cx="13716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6736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001000" y="4395960"/>
          <a:ext cx="1143000" cy="39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01000" y="4395960"/>
                    <a:ext cx="11430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43434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91320" y="5200560"/>
          <a:ext cx="685800" cy="30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91320" y="5200560"/>
                    <a:ext cx="68580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666880" y="541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953480" y="5191200"/>
          <a:ext cx="685800" cy="29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53480" y="5191200"/>
                    <a:ext cx="68580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400800" y="5486400"/>
          <a:ext cx="685800" cy="299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00800" y="5486400"/>
                    <a:ext cx="68580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257800" y="5757840"/>
          <a:ext cx="685800" cy="30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57800" y="5757840"/>
                    <a:ext cx="68580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F48-E070-4F3C-A8C2-2F0E396435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373392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Έστω ότ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981080" y="3738600"/>
          <a:ext cx="10670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738600"/>
                    <a:ext cx="10670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45200" y="4265640"/>
            <a:ext cx="750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πειδή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κλίση του διαγράμματος μέτορυ είναι 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/dec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ις χαμηλές συχνότητ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3388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95280" y="4862520"/>
          <a:ext cx="121932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62520"/>
                    <a:ext cx="12193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47000" y="53481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(s)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 τύπου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4880" y="1905120"/>
            <a:ext cx="68738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υστάθεια ανοικτού συστήματος απ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d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διάγραμμ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υστάθεια κλειστού συστήματος απ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d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διάγραμμα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ρκεί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&gt;0, GM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                           τότε το κλειστό είναι ασταθ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948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19120" y="3203640"/>
          <a:ext cx="152424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9120" y="3203640"/>
                    <a:ext cx="15242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F2E-893E-4682-94D5-DF7398C384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79640" y="1836720"/>
            <a:ext cx="3397320" cy="1973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3280" y="430524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(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ύπου 0 και βηματική είσοδο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(t)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2444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4800600"/>
          <a:ext cx="137160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4800600"/>
                    <a:ext cx="13716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86244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57320" y="5562720"/>
          <a:ext cx="2306520" cy="49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57320" y="5562720"/>
                    <a:ext cx="23065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9DC-2EC9-44B9-9E4F-451D6E2C29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2139840"/>
            <a:ext cx="6858000" cy="305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6680" y="5410080"/>
            <a:ext cx="82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τη μείωση του      πρέπει να μετατωπιστεί η καμπύλη του μέτρου προς τα πάνω στι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αμηλές συχνότητε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0" y="5410080"/>
          <a:ext cx="31752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5410080"/>
                    <a:ext cx="317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3D8-CF96-4126-8F3D-232A955F72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400" y="2095560"/>
            <a:ext cx="19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ιδανικό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εγκτής επηρεάζε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ην απόκριση το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στήματος μόν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ις χαμηλέ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χνότητ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4794480" cy="48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DCB-26FE-4A51-92BB-42CCD48F5B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8680" y="2171880"/>
            <a:ext cx="64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εγκτής παρέχει καλύτερη απόκριση στη μόνιμη κατάστα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467480" y="2057400"/>
          <a:ext cx="1219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057400"/>
                    <a:ext cx="12193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45640" y="5829480"/>
            <a:ext cx="68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ώ συνήθως «χειροτερεύει» την μεταβατική απόκριση του συστήματ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306440" y="2666880"/>
            <a:ext cx="6531120" cy="317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2F9-37B1-4FD8-B3B5-7FB2DD9AFB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0" y="2695680"/>
            <a:ext cx="394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ε σπάνιες περιπτώσεις ο αντισταθμιτή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πορεί να οδηγήσει το σύστημα σ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στάθεια, ένεκα της αρνητικής γωνία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φάσης που εισάγε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794120" cy="47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396-A955-41A6-A711-06D69343D8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6324840" cy="466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202-9FC6-4467-9BDB-BC341A9232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35600" y="6477120"/>
            <a:ext cx="4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480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114800" cy="3602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546880" y="2886120"/>
            <a:ext cx="25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υνάρτηση μεταφορ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36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952880" y="3962520"/>
          <a:ext cx="3657600" cy="146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3962520"/>
                    <a:ext cx="36576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B28-2381-4BD8-A600-ECEEDB5142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0:57:36Z</dcterms:created>
  <dc:creator>WIN2K</dc:creator>
  <dc:description/>
  <dc:language>en-US</dc:language>
  <cp:lastModifiedBy>WinUser</cp:lastModifiedBy>
  <dcterms:modified xsi:type="dcterms:W3CDTF">2004-04-26T07:57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8667929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