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AB4A-17C2-4F9A-B2E7-96D8E26C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D927-FA5D-4731-A78A-CA950695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18C7-6BB0-4EB7-89EE-860B6414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6C7-EED5-4E37-93A9-15F38A1D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C869-0174-4CC2-93BA-AC5430B2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1BE9-C7FE-4C98-AA2C-A18F527B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FEB5-EFD6-47F9-AB4B-F4ADB19A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BFE2-A7A9-4502-9253-85D3F575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5C30-A227-4CB4-93E5-920DA15A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A6BB-59B1-4948-8F55-6EF74945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18FC-62DB-4D4D-A487-88FD84D7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B048-4BAB-40AB-A26E-5D5B4AF5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057D-EE51-4672-8870-7DC4D5C1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30D7-FB95-422E-968A-34C6D312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DC9C-F3D8-4EAD-83CB-BB1B100D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9B47-7920-410C-AE8D-8E306F85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053B-02CF-412F-A370-F6FB88A7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DD3-78A7-4078-81F3-DB8B95B3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FFE4-8452-4E09-B353-E42D75D4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73E7-D015-4C42-80DE-C7A1B557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C5B7-3481-4996-8FA7-80D51659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1BE6-63E1-4883-A4EB-3993B729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91A5-B2D1-4538-88D9-3CE495F6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CBBE-54FD-49E4-83EC-186D0324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E29C-2B71-4F49-B3D3-CA7CE0CF8D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B1BB-1042-439C-BAF5-F051F53860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560" y="236232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Ιδανικό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-bit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βαντιστή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516480" y="1828800"/>
            <a:ext cx="4941720" cy="1703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6320" y="3236760"/>
            <a:ext cx="4038480" cy="3468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908960" y="3924360"/>
            <a:ext cx="4069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τις περισσότερες περιπτώσεις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</a:t>
            </a:r>
            <a:r>
              <a:rPr b="0" lang="el-GR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ΜΑΧ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Ι</a:t>
            </a:r>
            <a:r>
              <a:rPr b="0" lang="el-GR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ΜΑ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</a:t>
            </a:r>
            <a:r>
              <a:rPr b="0" lang="el-GR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ΜΙΝ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Ι</a:t>
            </a:r>
            <a:r>
              <a:rPr b="0" lang="el-GR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ΜΙ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36680" y="4915080"/>
            <a:ext cx="419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αριθμός τω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του κβαντιστή, τότ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σφάλμα κβαντισμού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είνα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867280" y="5638680"/>
          <a:ext cx="1524240" cy="55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5638680"/>
                    <a:ext cx="15242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005B-6844-4E67-B847-05AE1999BD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-35640" y="6548400"/>
            <a:ext cx="239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l-GR" sz="14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720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433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4572000" y="2895480"/>
          <a:ext cx="160020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895480"/>
                    <a:ext cx="16002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2133720" y="182880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ΚΑΤΑΓΡΑΦΗ ΑΡΙΘΜ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90720" y="23623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κέραιοι Αριθμοί (χωρίς πρόσημο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762120" y="2971800"/>
            <a:ext cx="2864880" cy="453960"/>
            <a:chOff x="762120" y="2971800"/>
            <a:chExt cx="2864880" cy="453960"/>
          </a:xfrm>
        </p:grpSpPr>
        <p:sp>
          <p:nvSpPr>
            <p:cNvPr id="344" name=""/>
            <p:cNvSpPr/>
            <p:nvPr/>
          </p:nvSpPr>
          <p:spPr>
            <a:xfrm>
              <a:off x="909360" y="2971800"/>
              <a:ext cx="6188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Ι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W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2120" y="2971800"/>
              <a:ext cx="914040" cy="4539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98560" y="2971800"/>
              <a:ext cx="8820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76160" y="2971800"/>
              <a:ext cx="1126800" cy="4539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922480" y="2971800"/>
              <a:ext cx="704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815920" y="2971800"/>
              <a:ext cx="612360" cy="4539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1143000" y="37339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κέραιοι Αριθμοί (με πρόσημο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838080" y="4343400"/>
            <a:ext cx="2590200" cy="533160"/>
            <a:chOff x="838080" y="4343400"/>
            <a:chExt cx="2590200" cy="533160"/>
          </a:xfrm>
        </p:grpSpPr>
        <p:grpSp>
          <p:nvGrpSpPr>
            <p:cNvPr id="352" name=""/>
            <p:cNvGrpSpPr/>
            <p:nvPr/>
          </p:nvGrpSpPr>
          <p:grpSpPr>
            <a:xfrm>
              <a:off x="838080" y="4347000"/>
              <a:ext cx="546480" cy="529560"/>
              <a:chOff x="838080" y="4347000"/>
              <a:chExt cx="546480" cy="529560"/>
            </a:xfrm>
          </p:grpSpPr>
          <p:sp>
            <p:nvSpPr>
              <p:cNvPr id="353" name=""/>
              <p:cNvSpPr/>
              <p:nvPr/>
            </p:nvSpPr>
            <p:spPr>
              <a:xfrm>
                <a:off x="926280" y="4347000"/>
                <a:ext cx="369360" cy="52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38080" y="4347000"/>
                <a:ext cx="546480" cy="529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1384920" y="4347000"/>
              <a:ext cx="747720" cy="529560"/>
              <a:chOff x="1384920" y="4347000"/>
              <a:chExt cx="747720" cy="529560"/>
            </a:xfrm>
          </p:grpSpPr>
          <p:sp>
            <p:nvSpPr>
              <p:cNvPr id="356" name=""/>
              <p:cNvSpPr/>
              <p:nvPr/>
            </p:nvSpPr>
            <p:spPr>
              <a:xfrm>
                <a:off x="1486080" y="4347000"/>
                <a:ext cx="545400" cy="52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W-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384920" y="4347000"/>
                <a:ext cx="747720" cy="529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2133360" y="4343400"/>
              <a:ext cx="602280" cy="529560"/>
              <a:chOff x="2133360" y="4343400"/>
              <a:chExt cx="602280" cy="529560"/>
            </a:xfrm>
          </p:grpSpPr>
          <p:sp>
            <p:nvSpPr>
              <p:cNvPr id="359" name=""/>
              <p:cNvSpPr/>
              <p:nvPr/>
            </p:nvSpPr>
            <p:spPr>
              <a:xfrm>
                <a:off x="2198880" y="4343400"/>
                <a:ext cx="470520" cy="52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133360" y="4343400"/>
                <a:ext cx="602280" cy="529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2748600" y="4343400"/>
              <a:ext cx="679680" cy="529560"/>
              <a:chOff x="2748600" y="4343400"/>
              <a:chExt cx="679680" cy="529560"/>
            </a:xfrm>
          </p:grpSpPr>
          <p:sp>
            <p:nvSpPr>
              <p:cNvPr id="362" name=""/>
              <p:cNvSpPr/>
              <p:nvPr/>
            </p:nvSpPr>
            <p:spPr>
              <a:xfrm>
                <a:off x="2826720" y="4343400"/>
                <a:ext cx="523440" cy="52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748600" y="4343400"/>
                <a:ext cx="679680" cy="529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64" name=""/>
          <p:cNvGraphicFramePr/>
          <p:nvPr/>
        </p:nvGraphicFramePr>
        <p:xfrm>
          <a:off x="4038480" y="4343400"/>
          <a:ext cx="1752840" cy="63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4343400"/>
                    <a:ext cx="175284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6477120" y="4343400"/>
          <a:ext cx="1731960" cy="64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4343400"/>
                    <a:ext cx="17319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1143000" y="51814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ριθμοί σταθερής υποδιαστολή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477120" y="5638680"/>
          <a:ext cx="18478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5638680"/>
                    <a:ext cx="1847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1" name=""/>
          <p:cNvGrpSpPr/>
          <p:nvPr/>
        </p:nvGrpSpPr>
        <p:grpSpPr>
          <a:xfrm>
            <a:off x="838080" y="5562720"/>
            <a:ext cx="5119200" cy="834840"/>
            <a:chOff x="838080" y="5562720"/>
            <a:chExt cx="5119200" cy="834840"/>
          </a:xfrm>
        </p:grpSpPr>
        <p:grpSp>
          <p:nvGrpSpPr>
            <p:cNvPr id="372" name=""/>
            <p:cNvGrpSpPr/>
            <p:nvPr/>
          </p:nvGrpSpPr>
          <p:grpSpPr>
            <a:xfrm>
              <a:off x="838080" y="5867280"/>
              <a:ext cx="5119200" cy="530280"/>
              <a:chOff x="838080" y="5867280"/>
              <a:chExt cx="5119200" cy="53028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838080" y="5867280"/>
                <a:ext cx="721800" cy="530280"/>
                <a:chOff x="838080" y="5867280"/>
                <a:chExt cx="721800" cy="5302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954720" y="5867280"/>
                  <a:ext cx="48780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838080" y="5867280"/>
                  <a:ext cx="721800" cy="53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1560240" y="5867280"/>
                <a:ext cx="863280" cy="530280"/>
                <a:chOff x="1560240" y="5867280"/>
                <a:chExt cx="863280" cy="53028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1677240" y="5867280"/>
                  <a:ext cx="62964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W-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560240" y="5867280"/>
                  <a:ext cx="863280" cy="53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411440" y="5867280"/>
                <a:ext cx="539280" cy="525240"/>
                <a:chOff x="4411440" y="5867280"/>
                <a:chExt cx="539280" cy="5252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484160" y="5867280"/>
                  <a:ext cx="393120" cy="52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411440" y="5867280"/>
                  <a:ext cx="539280" cy="52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2887560" y="5867280"/>
                <a:ext cx="685440" cy="530280"/>
                <a:chOff x="2887560" y="5867280"/>
                <a:chExt cx="685440" cy="5302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3015720" y="5867280"/>
                  <a:ext cx="42840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887560" y="5867280"/>
                  <a:ext cx="685440" cy="53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3573360" y="5867280"/>
                <a:ext cx="837720" cy="530280"/>
                <a:chOff x="3573360" y="5867280"/>
                <a:chExt cx="837720" cy="5302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3664800" y="5867280"/>
                  <a:ext cx="65448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-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573360" y="5867280"/>
                  <a:ext cx="837720" cy="53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4944960" y="5867280"/>
                <a:ext cx="1012320" cy="525240"/>
                <a:chOff x="4944960" y="5867280"/>
                <a:chExt cx="1012320" cy="52524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5061240" y="5867280"/>
                  <a:ext cx="779400" cy="52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-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944960" y="5867280"/>
                  <a:ext cx="1012320" cy="52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2430360" y="5867280"/>
                <a:ext cx="457200" cy="525240"/>
                <a:chOff x="2430360" y="5867280"/>
                <a:chExt cx="457200" cy="52524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2492280" y="5867280"/>
                  <a:ext cx="333360" cy="52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430360" y="5867280"/>
                  <a:ext cx="457200" cy="52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4" name=""/>
            <p:cNvSpPr/>
            <p:nvPr/>
          </p:nvSpPr>
          <p:spPr>
            <a:xfrm flipH="1">
              <a:off x="914400" y="5715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71800" y="55627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05320" y="5715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420-15F6-4D29-A17B-B96E398C07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956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4960" y="2171880"/>
            <a:ext cx="85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-bit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εταροπέας, μετατρέπει τις κβαντισμένες               τιμές εξόδου σε μι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-bit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λέξη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162400" y="2143080"/>
          <a:ext cx="762120" cy="37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2400" y="2143080"/>
                    <a:ext cx="7621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312920" y="2682720"/>
            <a:ext cx="6518160" cy="517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3400" y="35812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Βασισμένος στις σχέσει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90720" y="4027320"/>
          <a:ext cx="6019560" cy="46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4027320"/>
                    <a:ext cx="60195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996840" y="4648320"/>
          <a:ext cx="7004160" cy="468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96840" y="4648320"/>
                    <a:ext cx="70041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001880" y="5551560"/>
          <a:ext cx="7072200" cy="46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01880" y="5551560"/>
                    <a:ext cx="70722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051560" y="4991040"/>
            <a:ext cx="3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1190-1DEB-49EF-A0FA-587FAFA3C3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71560" y="2378160"/>
            <a:ext cx="7399440" cy="318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2971800" y="5562720"/>
          <a:ext cx="3200400" cy="82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5562720"/>
                    <a:ext cx="320040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992880" y="1981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11D5-7FD5-4E0E-9291-110BF6B775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956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2967120" cy="3124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809880" y="2057400"/>
            <a:ext cx="4572000" cy="426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DBC1-973B-42D7-8D14-FE72D2737C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956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05640" y="1919160"/>
            <a:ext cx="20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25480" y="2411280"/>
            <a:ext cx="7556400" cy="366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7DCF-50C8-4BDB-9B3F-492F7C733D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956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04200" y="191916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ΨΗΦΙΑΚΟΣ ΕΛΕΓΧ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33640" y="2525760"/>
            <a:ext cx="6876720" cy="2198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80280" y="4915080"/>
            <a:ext cx="47005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ΟΜΙΚΑ ΣΤΟΙΧΕΙ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/DAC: -Q-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ύρος λειτουργίας: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Ι</a:t>
            </a:r>
            <a:r>
              <a:rPr b="0" lang="el-GR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ΜΑΧ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(Ο</a:t>
            </a:r>
            <a:r>
              <a:rPr b="0" lang="el-GR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ΜΙΝ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Ο</a:t>
            </a:r>
            <a:r>
              <a:rPr b="0" lang="el-GR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ΜΑΧ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322E-0F57-4940-8DCE-24A7AE3595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33120" y="6521400"/>
            <a:ext cx="26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72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720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28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292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105160" y="1676160"/>
            <a:ext cx="4038480" cy="2819160"/>
            <a:chOff x="5105160" y="1676160"/>
            <a:chExt cx="4038480" cy="2819160"/>
          </a:xfrm>
        </p:grpSpPr>
        <p:sp>
          <p:nvSpPr>
            <p:cNvPr id="170" name=""/>
            <p:cNvSpPr/>
            <p:nvPr/>
          </p:nvSpPr>
          <p:spPr>
            <a:xfrm flipV="1">
              <a:off x="7139160" y="167616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08720" y="3180600"/>
              <a:ext cx="346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144120" y="2240640"/>
              <a:ext cx="1913040" cy="190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57160" y="2240640"/>
              <a:ext cx="0" cy="93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139160" y="2240640"/>
              <a:ext cx="91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35120" y="4120200"/>
              <a:ext cx="1003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6135120" y="3180600"/>
              <a:ext cx="0" cy="93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10280" y="3366720"/>
              <a:ext cx="3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63680" y="1676520"/>
              <a:ext cx="29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890480" y="3305160"/>
              <a:ext cx="83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Ι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89200" y="2051640"/>
              <a:ext cx="93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61440" y="2866680"/>
              <a:ext cx="73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79840" y="3806640"/>
              <a:ext cx="98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47080" y="2263680"/>
              <a:ext cx="86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5105160" y="4142880"/>
              <a:ext cx="103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28600" y="205740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Χαρακτηριστική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C &amp; DA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όταν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267080" y="2057400"/>
          <a:ext cx="91440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057400"/>
                    <a:ext cx="9144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80880" y="2514600"/>
          <a:ext cx="350532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350532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04920" y="3505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ε χρήση τελεστικού ενισχυτ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1148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ικρότερη συχνότητα δειγματοληψίας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46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04920" y="4495680"/>
          <a:ext cx="68580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495680"/>
                    <a:ext cx="6858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752480" y="4419720"/>
          <a:ext cx="1524240" cy="693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4419720"/>
                    <a:ext cx="152424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114300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45720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υπικές τιμές: 1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KHz, 1MHz,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59436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το εργαστήριο χρησιμοποιείται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I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-6024Ε σύστημα συλλογής δεδομένων με 16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Cs, 2DACs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=12,Imax=-Imin=10Volt, F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0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5105520"/>
            <a:ext cx="548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ύξησ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     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ικραίνει το σφάλμα ψηφιοποίησης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αυξάνει το κόστ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533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410080" y="4876920"/>
          <a:ext cx="1371600" cy="771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0080" y="4876920"/>
                    <a:ext cx="13716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9E4D-7521-4049-86E5-A329E94EBA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33120" y="6521400"/>
            <a:ext cx="26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72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720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19051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ριθμοί Κινητής Υποδιαστολή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66688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ISSA (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ύρο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33520" y="3048120"/>
            <a:ext cx="4876200" cy="533160"/>
            <a:chOff x="533520" y="3048120"/>
            <a:chExt cx="4876200" cy="533160"/>
          </a:xfrm>
        </p:grpSpPr>
        <p:grpSp>
          <p:nvGrpSpPr>
            <p:cNvPr id="216" name=""/>
            <p:cNvGrpSpPr/>
            <p:nvPr/>
          </p:nvGrpSpPr>
          <p:grpSpPr>
            <a:xfrm>
              <a:off x="540000" y="3051720"/>
              <a:ext cx="4861440" cy="525240"/>
              <a:chOff x="540000" y="3051720"/>
              <a:chExt cx="4861440" cy="52524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540000" y="3051720"/>
                <a:ext cx="607680" cy="525240"/>
                <a:chOff x="540000" y="3051720"/>
                <a:chExt cx="607680" cy="52524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638280" y="3051720"/>
                  <a:ext cx="410760" cy="52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40000" y="3051720"/>
                  <a:ext cx="607680" cy="52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1148040" y="3051720"/>
                <a:ext cx="726120" cy="525240"/>
                <a:chOff x="1148040" y="3051720"/>
                <a:chExt cx="726120" cy="5252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1246320" y="3051720"/>
                  <a:ext cx="529920" cy="52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148040" y="3051720"/>
                  <a:ext cx="726120" cy="52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1874520" y="3051720"/>
                <a:ext cx="726840" cy="525240"/>
                <a:chOff x="1874520" y="3051720"/>
                <a:chExt cx="726840" cy="5252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972800" y="3051720"/>
                  <a:ext cx="529920" cy="52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874520" y="3051720"/>
                  <a:ext cx="726840" cy="52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2602080" y="3051720"/>
                <a:ext cx="522360" cy="525240"/>
                <a:chOff x="2602080" y="3051720"/>
                <a:chExt cx="522360" cy="52524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2699640" y="3051720"/>
                  <a:ext cx="326520" cy="52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2602080" y="3051720"/>
                  <a:ext cx="522360" cy="52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3125160" y="3051720"/>
                <a:ext cx="900360" cy="525240"/>
                <a:chOff x="3125160" y="3051720"/>
                <a:chExt cx="900360" cy="52524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223440" y="3051720"/>
                  <a:ext cx="703440" cy="52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125160" y="3051720"/>
                  <a:ext cx="900360" cy="52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4025880" y="3051720"/>
                <a:ext cx="523080" cy="525240"/>
                <a:chOff x="4025880" y="3051720"/>
                <a:chExt cx="523080" cy="52524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4123800" y="3051720"/>
                  <a:ext cx="326880" cy="52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025880" y="3051720"/>
                  <a:ext cx="523080" cy="52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4549680" y="3051720"/>
                <a:ext cx="851760" cy="525240"/>
                <a:chOff x="4549680" y="3051720"/>
                <a:chExt cx="851760" cy="5252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4647600" y="3051720"/>
                  <a:ext cx="655920" cy="52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M-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549680" y="3051720"/>
                  <a:ext cx="851760" cy="52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8" name=""/>
            <p:cNvSpPr/>
            <p:nvPr/>
          </p:nvSpPr>
          <p:spPr>
            <a:xfrm>
              <a:off x="533520" y="3048120"/>
              <a:ext cx="4876200" cy="5331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85800" y="36576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41911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NENT(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κθετικ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33520" y="4572000"/>
            <a:ext cx="4266720" cy="533520"/>
            <a:chOff x="533520" y="4572000"/>
            <a:chExt cx="4266720" cy="533520"/>
          </a:xfrm>
        </p:grpSpPr>
        <p:grpSp>
          <p:nvGrpSpPr>
            <p:cNvPr id="242" name=""/>
            <p:cNvGrpSpPr/>
            <p:nvPr/>
          </p:nvGrpSpPr>
          <p:grpSpPr>
            <a:xfrm>
              <a:off x="540360" y="4574160"/>
              <a:ext cx="4251960" cy="528480"/>
              <a:chOff x="540360" y="4574160"/>
              <a:chExt cx="4251960" cy="52848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540360" y="4574160"/>
                <a:ext cx="610560" cy="528480"/>
                <a:chOff x="540360" y="4574160"/>
                <a:chExt cx="610560" cy="52848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43320" y="4574160"/>
                  <a:ext cx="40464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40360" y="4574160"/>
                  <a:ext cx="610560" cy="528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1151280" y="4574160"/>
                <a:ext cx="776160" cy="528480"/>
                <a:chOff x="1151280" y="4574160"/>
                <a:chExt cx="776160" cy="52848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1254240" y="4574160"/>
                  <a:ext cx="57024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-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151280" y="4574160"/>
                  <a:ext cx="776160" cy="528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1927800" y="4574160"/>
                <a:ext cx="483840" cy="528480"/>
                <a:chOff x="1927800" y="4574160"/>
                <a:chExt cx="483840" cy="5284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030760" y="4574160"/>
                  <a:ext cx="27756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927800" y="4574160"/>
                  <a:ext cx="483840" cy="528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2412360" y="4574160"/>
                <a:ext cx="488520" cy="528480"/>
                <a:chOff x="2412360" y="4574160"/>
                <a:chExt cx="488520" cy="5284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2515320" y="4574160"/>
                  <a:ext cx="28224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412360" y="4574160"/>
                  <a:ext cx="488520" cy="528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2901600" y="4574160"/>
                <a:ext cx="751680" cy="528480"/>
                <a:chOff x="2901600" y="4574160"/>
                <a:chExt cx="751680" cy="5284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3004200" y="4574160"/>
                  <a:ext cx="54648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901600" y="4574160"/>
                  <a:ext cx="751680" cy="528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3654000" y="4574160"/>
                <a:ext cx="517680" cy="528480"/>
                <a:chOff x="3654000" y="4574160"/>
                <a:chExt cx="517680" cy="5284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756960" y="4574160"/>
                  <a:ext cx="31104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654000" y="4574160"/>
                  <a:ext cx="517680" cy="528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172040" y="4574160"/>
                <a:ext cx="620280" cy="528480"/>
                <a:chOff x="4172040" y="4574160"/>
                <a:chExt cx="620280" cy="5284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4274640" y="4574160"/>
                  <a:ext cx="41436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172040" y="4574160"/>
                  <a:ext cx="620280" cy="528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" name=""/>
            <p:cNvSpPr/>
            <p:nvPr/>
          </p:nvSpPr>
          <p:spPr>
            <a:xfrm>
              <a:off x="533520" y="4572000"/>
              <a:ext cx="4266720" cy="5335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09480" y="5257800"/>
            <a:ext cx="6858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ISSA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ίναι 0 (1) ο αριθμός είναι θετικός (αρνητικός)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D073-884C-43CC-8407-2E9A8DC7E9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-35640" y="6548400"/>
            <a:ext cx="239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l-GR" sz="14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72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720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22860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ριθμός εύρους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433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666880" y="2057400"/>
          <a:ext cx="1219320" cy="7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057400"/>
                    <a:ext cx="121932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762120" y="2819520"/>
          <a:ext cx="1295280" cy="82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819520"/>
                    <a:ext cx="129528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1" name=""/>
          <p:cNvGrpSpPr/>
          <p:nvPr/>
        </p:nvGrpSpPr>
        <p:grpSpPr>
          <a:xfrm>
            <a:off x="533520" y="4267080"/>
            <a:ext cx="3733560" cy="380880"/>
            <a:chOff x="533520" y="4267080"/>
            <a:chExt cx="3733560" cy="380880"/>
          </a:xfrm>
        </p:grpSpPr>
        <p:sp>
          <p:nvSpPr>
            <p:cNvPr id="282" name=""/>
            <p:cNvSpPr/>
            <p:nvPr/>
          </p:nvSpPr>
          <p:spPr>
            <a:xfrm>
              <a:off x="990720" y="4267080"/>
              <a:ext cx="7617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 1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28800" y="4267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*</a:t>
              </a: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l-GR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1</a:t>
              </a: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*</a:t>
              </a: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l-GR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2</a:t>
              </a: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=0.7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3520" y="4267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33520" y="4800600"/>
            <a:ext cx="3733560" cy="407880"/>
            <a:chOff x="533520" y="4800600"/>
            <a:chExt cx="3733560" cy="407880"/>
          </a:xfrm>
        </p:grpSpPr>
        <p:sp>
          <p:nvSpPr>
            <p:cNvPr id="286" name=""/>
            <p:cNvSpPr/>
            <p:nvPr/>
          </p:nvSpPr>
          <p:spPr>
            <a:xfrm>
              <a:off x="990720" y="4800600"/>
              <a:ext cx="7617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 1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28800" y="480060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3520" y="4800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9" name=""/>
            <p:cNvGraphicFramePr/>
            <p:nvPr/>
          </p:nvGraphicFramePr>
          <p:xfrm>
            <a:off x="2133720" y="4800600"/>
            <a:ext cx="1780920" cy="407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33720" y="4800600"/>
                      <a:ext cx="178092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1" name=""/>
          <p:cNvGrpSpPr/>
          <p:nvPr/>
        </p:nvGrpSpPr>
        <p:grpSpPr>
          <a:xfrm>
            <a:off x="685800" y="5334120"/>
            <a:ext cx="3200400" cy="380880"/>
            <a:chOff x="685800" y="5334120"/>
            <a:chExt cx="3200400" cy="380880"/>
          </a:xfrm>
        </p:grpSpPr>
        <p:sp>
          <p:nvSpPr>
            <p:cNvPr id="292" name=""/>
            <p:cNvSpPr/>
            <p:nvPr/>
          </p:nvSpPr>
          <p:spPr>
            <a:xfrm>
              <a:off x="685800" y="5334120"/>
              <a:ext cx="762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 1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52480" y="5334120"/>
              <a:ext cx="762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 1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4" name=""/>
            <p:cNvGraphicFramePr/>
            <p:nvPr/>
          </p:nvGraphicFramePr>
          <p:xfrm>
            <a:off x="2666880" y="5334120"/>
            <a:ext cx="1219320" cy="376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9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66880" y="5334120"/>
                      <a:ext cx="1219320" cy="3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6" name=""/>
          <p:cNvSpPr/>
          <p:nvPr/>
        </p:nvSpPr>
        <p:spPr>
          <a:xfrm>
            <a:off x="2362320" y="3048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έγιστος Αριθμός Εύρου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5715000"/>
            <a:ext cx="6248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precision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συνολικά χρησιμοποιεί 3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8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και 24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precision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συνολικά χρησιμοποιεί 16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8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και 8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337000" y="2971800"/>
            <a:ext cx="1490760" cy="380880"/>
            <a:chOff x="5337000" y="2971800"/>
            <a:chExt cx="1490760" cy="380880"/>
          </a:xfrm>
        </p:grpSpPr>
        <p:grpSp>
          <p:nvGrpSpPr>
            <p:cNvPr id="299" name=""/>
            <p:cNvGrpSpPr/>
            <p:nvPr/>
          </p:nvGrpSpPr>
          <p:grpSpPr>
            <a:xfrm>
              <a:off x="5337000" y="2975040"/>
              <a:ext cx="304920" cy="377640"/>
              <a:chOff x="5337000" y="2975040"/>
              <a:chExt cx="304920" cy="377640"/>
            </a:xfrm>
          </p:grpSpPr>
          <p:sp>
            <p:nvSpPr>
              <p:cNvPr id="300" name=""/>
              <p:cNvSpPr/>
              <p:nvPr/>
            </p:nvSpPr>
            <p:spPr>
              <a:xfrm>
                <a:off x="5386320" y="2975040"/>
                <a:ext cx="2059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337000" y="2975040"/>
                <a:ext cx="304920" cy="377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5641920" y="2975040"/>
              <a:ext cx="363600" cy="377640"/>
              <a:chOff x="5641920" y="2975040"/>
              <a:chExt cx="363600" cy="377640"/>
            </a:xfrm>
          </p:grpSpPr>
          <p:sp>
            <p:nvSpPr>
              <p:cNvPr id="303" name=""/>
              <p:cNvSpPr/>
              <p:nvPr/>
            </p:nvSpPr>
            <p:spPr>
              <a:xfrm>
                <a:off x="5690880" y="2975040"/>
                <a:ext cx="2653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641920" y="2975040"/>
                <a:ext cx="363600" cy="377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5943600" y="2971800"/>
              <a:ext cx="450720" cy="378000"/>
              <a:chOff x="5943600" y="2971800"/>
              <a:chExt cx="450720" cy="378000"/>
            </a:xfrm>
          </p:grpSpPr>
          <p:sp>
            <p:nvSpPr>
              <p:cNvPr id="306" name=""/>
              <p:cNvSpPr/>
              <p:nvPr/>
            </p:nvSpPr>
            <p:spPr>
              <a:xfrm>
                <a:off x="5992560" y="2971800"/>
                <a:ext cx="3520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943600" y="2971800"/>
                <a:ext cx="450720" cy="378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6400800" y="2971800"/>
              <a:ext cx="426960" cy="378000"/>
              <a:chOff x="6400800" y="2971800"/>
              <a:chExt cx="426960" cy="378000"/>
            </a:xfrm>
          </p:grpSpPr>
          <p:sp>
            <p:nvSpPr>
              <p:cNvPr id="309" name=""/>
              <p:cNvSpPr/>
              <p:nvPr/>
            </p:nvSpPr>
            <p:spPr>
              <a:xfrm>
                <a:off x="6449760" y="2971800"/>
                <a:ext cx="3286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2971800"/>
                <a:ext cx="426960" cy="378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11" name=""/>
          <p:cNvGraphicFramePr/>
          <p:nvPr/>
        </p:nvGraphicFramePr>
        <p:xfrm>
          <a:off x="7010280" y="2971800"/>
          <a:ext cx="1067040" cy="44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0280" y="2971800"/>
                    <a:ext cx="106704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2286000" y="35812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έγιστος Αριθμός Έκθεση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334120" y="3581280"/>
            <a:ext cx="1490040" cy="380880"/>
            <a:chOff x="5334120" y="3581280"/>
            <a:chExt cx="1490040" cy="380880"/>
          </a:xfrm>
        </p:grpSpPr>
        <p:grpSp>
          <p:nvGrpSpPr>
            <p:cNvPr id="315" name=""/>
            <p:cNvGrpSpPr/>
            <p:nvPr/>
          </p:nvGrpSpPr>
          <p:grpSpPr>
            <a:xfrm>
              <a:off x="5334120" y="3584520"/>
              <a:ext cx="304560" cy="377640"/>
              <a:chOff x="5334120" y="3584520"/>
              <a:chExt cx="304560" cy="377640"/>
            </a:xfrm>
          </p:grpSpPr>
          <p:sp>
            <p:nvSpPr>
              <p:cNvPr id="316" name=""/>
              <p:cNvSpPr/>
              <p:nvPr/>
            </p:nvSpPr>
            <p:spPr>
              <a:xfrm>
                <a:off x="5383440" y="3584520"/>
                <a:ext cx="2059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334120" y="3584520"/>
                <a:ext cx="304560" cy="377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5638680" y="3584520"/>
              <a:ext cx="363240" cy="377640"/>
              <a:chOff x="5638680" y="3584520"/>
              <a:chExt cx="363240" cy="377640"/>
            </a:xfrm>
          </p:grpSpPr>
          <p:sp>
            <p:nvSpPr>
              <p:cNvPr id="319" name=""/>
              <p:cNvSpPr/>
              <p:nvPr/>
            </p:nvSpPr>
            <p:spPr>
              <a:xfrm>
                <a:off x="5687640" y="3584520"/>
                <a:ext cx="26496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638680" y="3584520"/>
                <a:ext cx="363240" cy="377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5940360" y="3581280"/>
              <a:ext cx="450360" cy="378000"/>
              <a:chOff x="5940360" y="3581280"/>
              <a:chExt cx="450360" cy="378000"/>
            </a:xfrm>
          </p:grpSpPr>
          <p:sp>
            <p:nvSpPr>
              <p:cNvPr id="322" name=""/>
              <p:cNvSpPr/>
              <p:nvPr/>
            </p:nvSpPr>
            <p:spPr>
              <a:xfrm>
                <a:off x="5989320" y="3581280"/>
                <a:ext cx="3517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940360" y="3581280"/>
                <a:ext cx="450360" cy="378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397560" y="3581280"/>
              <a:ext cx="426600" cy="378000"/>
              <a:chOff x="6397560" y="3581280"/>
              <a:chExt cx="426600" cy="378000"/>
            </a:xfrm>
          </p:grpSpPr>
          <p:sp>
            <p:nvSpPr>
              <p:cNvPr id="325" name=""/>
              <p:cNvSpPr/>
              <p:nvPr/>
            </p:nvSpPr>
            <p:spPr>
              <a:xfrm>
                <a:off x="6446520" y="3581280"/>
                <a:ext cx="328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397560" y="3581280"/>
                <a:ext cx="426600" cy="378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27" name=""/>
          <p:cNvGraphicFramePr/>
          <p:nvPr/>
        </p:nvGraphicFramePr>
        <p:xfrm>
          <a:off x="7162920" y="3581280"/>
          <a:ext cx="1030320" cy="446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62920" y="3581280"/>
                    <a:ext cx="103032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0C7C-0DB0-44FC-9B44-16494EEF40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10:47:47Z</dcterms:created>
  <dc:creator>WIN2K</dc:creator>
  <dc:description/>
  <dc:language>en-US</dc:language>
  <cp:lastModifiedBy>WinUser</cp:lastModifiedBy>
  <dcterms:modified xsi:type="dcterms:W3CDTF">2004-04-26T08:11:5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37496179</vt:r8>
  </property>
  <property fmtid="{D5CDD505-2E9C-101B-9397-08002B2CF9AE}" pid="3" name="_AuthorEmail">
    <vt:lpwstr>tzes@ee.upatras.gr</vt:lpwstr>
  </property>
  <property fmtid="{D5CDD505-2E9C-101B-9397-08002B2CF9AE}" pid="4" name="_AuthorEmailDisplayName">
    <vt:lpwstr>Tzes Anthony</vt:lpwstr>
  </property>
  <property fmtid="{D5CDD505-2E9C-101B-9397-08002B2CF9AE}" pid="5" name="_EmailSubject">
    <vt:lpwstr>Power_point_presentations_4_SAE2</vt:lpwstr>
  </property>
</Properties>
</file>